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8F92-F5DF-4830-A524-EB79E3DE02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4904-9BB4-41BE-8576-BED8FF75354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pool 8/4/8, Manchester 22/5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283F-7007-4CAF-985C-C182DC1719A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oltesz G, Aynsley-Green A. Hyperinsulinism in infancy and childhood. </a:t>
            </a:r>
            <a:r>
              <a:rPr b="0" i="1" lang="en-GB" sz="700" spc="-1" strike="noStrike">
                <a:solidFill>
                  <a:srgbClr val="000000"/>
                </a:solidFill>
                <a:latin typeface="Arial"/>
              </a:rPr>
              <a:t>Ergeb Inn Med Kinderheilkd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1984;</a:t>
            </a: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:115-202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RHI formed in 1997 to urgently improve prognostic outcomes in treatment of HI. In 1999, a consensus statement agreed that  early referral to specialist centres was important in achieving this a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CD5E-9D51-4AC7-AD4B-D6CDABBCA1B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oltesz G, Aynsley-Green A. Hyperinsulinism in infancy and childhood. </a:t>
            </a:r>
            <a:r>
              <a:rPr b="0" i="1" lang="en-GB" sz="700" spc="-1" strike="noStrike">
                <a:solidFill>
                  <a:srgbClr val="000000"/>
                </a:solidFill>
                <a:latin typeface="Arial"/>
              </a:rPr>
              <a:t>Ergeb Inn Med Kinderheilkd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1984;</a:t>
            </a: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:115-202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RHI formed in 1997 to urgently improve prognostic outcomes in treatment of HI. In 1999, a consensus statement agreed that  early referral to specialist centres was important in achieving this a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70B4-E6DA-45B4-8737-A2A2DCC5564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oltesz G, Aynsley-Green A. Hyperinsulinism in infancy and childhood. </a:t>
            </a:r>
            <a:r>
              <a:rPr b="0" i="1" lang="en-GB" sz="700" spc="-1" strike="noStrike">
                <a:solidFill>
                  <a:srgbClr val="000000"/>
                </a:solidFill>
                <a:latin typeface="Arial"/>
              </a:rPr>
              <a:t>Ergeb Inn Med Kinderheilkd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1984;</a:t>
            </a: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:115-202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RHI formed in 1997 to urgently improve prognostic outcomes in treatment of HI. In 1999, a consensus statement agreed that  early referral to specialist centres was important in achieving this a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onatoloty: Clinical practice and procedure – Chapter 74 Management of Hyponatraemia, R.S. Co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044E-DA2F-4FE8-9E17-44274A29C4C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Hyponatremia in Preterm Neonates: Not a Benign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hael L. Moritz and Juan Carlos Ayus - Pediatrics November 2009, 124 (5) e1014-e10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2E44-901F-40AA-A559-F13AE3305B4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VLBW preterm infants with rapidly corrected Na, a higher incidence of spastic cerebral paralysis, neurosensorial auditory damage and behavioural problems has been observed – Bhatty SB et al,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diatr Research 1997;41:140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08F0-1ABA-4DF4-9EA7-6FAEB58AE80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11C04-8108-4468-AF82-DFE91E59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73DC4-EF20-4A77-802E-7FD72E78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02485-87AE-4EB0-AF5D-8701CADF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D13EC-C2F0-4166-B2FB-FC5CCF06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9755-C95A-4E54-8164-F29E12CE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4DBE-FBE3-4B36-9B33-7DFAAB7B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9335-F7AF-4FE9-BE47-427E27E1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92E3-C815-49C4-9250-E361DB94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5042-18A5-44B0-A280-855EF6A3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2664-0109-4877-B699-502F2441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B741-7B73-4B7B-A2C1-4F6DA2A4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6C077-F04D-46A4-93CB-D631CE77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EC23-B35A-4228-8D11-54E25C0D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20C3-E901-4A9B-A30B-12BB0D08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4511-CA7E-4B6C-A4E7-256C9F58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5015-0A08-4A84-A83B-656666C9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FECF-C57B-44D3-8188-10257CF5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F38FD-5E67-4C0D-B927-6F77036F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02ECE-E0B0-409B-A89B-33328AA4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64F2A-E8EC-4EBB-A6D2-F7D993A7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33849-2E18-40DB-9B34-84DE81DF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F1F58-2407-4686-986F-D74C519E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636AA-A01B-4B16-992F-42077688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83BF6-7DCA-4581-820A-1FA64E21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576f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5246-8B73-462C-A6E8-3C7079B8F3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576f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BCF8-20C8-4F43-A086-FD24F54DA3B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EC99-4885-4B7E-B3FF-336CCB68DA0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981000"/>
            <a:ext cx="89280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dbf5f9"/>
                </a:solidFill>
                <a:latin typeface="Arial"/>
              </a:rPr>
              <a:t>Hyponatraemia and adrenal axis disorders in the neonate</a:t>
            </a:r>
            <a:endParaRPr b="0" lang="en-US" sz="43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8000" y="2491920"/>
            <a:ext cx="7315200" cy="6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M Ska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Neonatal Endocrine Study Day - 4Feb20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-4680" y="3068640"/>
            <a:ext cx="9148680" cy="3816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4659480" y="19080"/>
            <a:ext cx="446544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3152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Pseudohypoaldosteronism (PHA)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483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PHA is characterized by hypertension and hyperkalem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Due to Mineralocorticoid resi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PHA is classified into Type 1 and Type 2 (adolescents and adult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8360" y="3279600"/>
          <a:ext cx="8280360" cy="3368880"/>
        </p:xfrm>
        <a:graphic>
          <a:graphicData uri="http://schemas.openxmlformats.org/drawingml/2006/table">
            <a:tbl>
              <a:tblPr/>
              <a:tblGrid>
                <a:gridCol w="1439640"/>
                <a:gridCol w="3529080"/>
                <a:gridCol w="3311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ary PHA Type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ondary PHA Type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2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an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ations in the amiloride-sensitive epithelial sodium channel gene (ENAC) or mineralocorticoid recepto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inary tract infections (UTI) +/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al urinary tract anomali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l, NaHCO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reson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iot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3152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Electrolyte imbalance condition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0920" y="1483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8000" y="1341360"/>
          <a:ext cx="8928000" cy="6272280"/>
        </p:xfrm>
        <a:graphic>
          <a:graphicData uri="http://schemas.openxmlformats.org/drawingml/2006/table">
            <a:tbl>
              <a:tblPr/>
              <a:tblGrid>
                <a:gridCol w="1844640"/>
                <a:gridCol w="1844640"/>
                <a:gridCol w="1919160"/>
                <a:gridCol w="1843200"/>
                <a:gridCol w="147636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doster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doster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doster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ologic aldosterone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ten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ten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ten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by volume deple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+,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a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+,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a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+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+,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a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bolic alkalo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bolic acido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bolic alkalo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bolic alkalo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hargy, poor fee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hargy, poor fee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uria, polydipsia, FTT, Muscle weak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T, polyuria, polydips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2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 Type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ddle syndr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23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loride t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515680"/>
            <a:ext cx="7315200" cy="156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f5f9"/>
                </a:solidFill>
                <a:latin typeface="Arial"/>
              </a:rPr>
              <a:t>Neonatal Adrenal Disorders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914400" y="516708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Neonatal adrenal disorder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560" y="1341000"/>
            <a:ext cx="87138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Arial"/>
              </a:rPr>
              <a:t>Adrenal conditions </a:t>
            </a:r>
            <a:r>
              <a:rPr b="0" lang="en-GB" sz="2400" spc="-1" strike="noStrike">
                <a:solidFill>
                  <a:srgbClr val="dbf5f9"/>
                </a:solidFill>
                <a:latin typeface="Arial"/>
              </a:rPr>
              <a:t>in Neonates caused by congenital or acquired disorders of t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Arial"/>
              </a:rPr>
              <a:t>Hypothalamus (Central – tertia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Arial"/>
              </a:rPr>
              <a:t>Pituitary (Central – Seconda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Arial"/>
              </a:rPr>
              <a:t>Adrenal glands (Primar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bf5f9"/>
                </a:solidFill>
                <a:latin typeface="Arial"/>
              </a:rPr>
              <a:t>Causes glucocorticoid deficiency and/or mineralocorticoid de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logo"/>
          <p:cNvPicPr/>
          <p:nvPr/>
        </p:nvPicPr>
        <p:blipFill>
          <a:blip r:embed="rId1"/>
          <a:srcRect l="0" t="0" r="58773" b="0"/>
          <a:stretch/>
        </p:blipFill>
        <p:spPr>
          <a:xfrm>
            <a:off x="7543800" y="0"/>
            <a:ext cx="160020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Neonatal adrenal disorder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560" y="1341000"/>
            <a:ext cx="87138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1480" indent="-45720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What is the commonest cause of childhood adrenal disorders worldwid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What is the commonest cause of childhood adrenal disorders in the U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logo"/>
          <p:cNvPicPr/>
          <p:nvPr/>
        </p:nvPicPr>
        <p:blipFill>
          <a:blip r:embed="rId1"/>
          <a:srcRect l="0" t="0" r="58773" b="0"/>
          <a:stretch/>
        </p:blipFill>
        <p:spPr>
          <a:xfrm>
            <a:off x="7543800" y="0"/>
            <a:ext cx="160020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3152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Primary Adrenal Insufficiency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1268280"/>
          <a:ext cx="8105760" cy="5105520"/>
        </p:xfrm>
        <a:graphic>
          <a:graphicData uri="http://schemas.openxmlformats.org/drawingml/2006/table">
            <a:tbl>
              <a:tblPr/>
              <a:tblGrid>
                <a:gridCol w="8105760"/>
              </a:tblGrid>
              <a:tr h="38160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Systemic disorder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600">
                <a:tc>
                  <a:txBody>
                    <a:bodyPr lIns="66600" rIns="66600" tIns="38160" bIns="38160" anchor="ctr">
                      <a:noAutofit/>
                    </a:bodyPr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. Granulomatous diseases – TB (most common cause worldwid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652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. Primary damage - Haemorrhage associated with eg. Meningococcal septicaemia (Waterhouse-Friderichsen syndrome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6520">
                <a:tc>
                  <a:txBody>
                    <a:bodyPr lIns="66600" rIns="66600" tIns="38160" bIns="38160" anchor="ctr">
                      <a:noAutofit/>
                    </a:bodyPr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. Autoimmune disease (either isolated or as part of the polyglandular autoimmune syndrome) – rare in neon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60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60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Genetic disease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6520">
                <a:tc>
                  <a:txBody>
                    <a:bodyPr lIns="66600" rIns="66600" tIns="38160" bIns="38160" anchor="ctr">
                      <a:noAutofit/>
                    </a:bodyPr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.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ongenital Adrenal Hyperplasia (CAH) - 21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α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hydroxylase deficiency (21OHD -  most common cause in the UK), 3bHSD, 11OH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60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. Peroxisomal defects (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drenoleukodystrophy, Zellweger syndr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60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. Abnormal adrenal gland develop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60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4.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ongenital adrenal hypoplasia - gene mutations (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X-1, SF1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60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5. Other genetic conditions – Triple A syndrome, FG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bf5f9"/>
                </a:solidFill>
                <a:latin typeface="Arial"/>
              </a:rPr>
              <a:t>Neonatal salt wasting endocrine disorder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560" y="1700280"/>
            <a:ext cx="87138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Salt wasting conditions occur if there is compromis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1. </a:t>
            </a: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Calibri"/>
              </a:rPr>
              <a:t>Mineralocorticoid production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due to adrenal enzyme pathway disorders – eg. 21OHD or 3bHSD CAH, aldosterone synthase de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2. </a:t>
            </a: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Calibri"/>
              </a:rPr>
              <a:t>Resistance of receptors to aldosterone or disorders of the  renin-angiotensin pathway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 - Pseudohypoaldosteronism or RTA Type 4, U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Calibri"/>
              </a:rPr>
              <a:t>Salt wasting does not normally occur in pituitary related adrenal insufficiency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 or certain forms of CAH (11</a:t>
            </a:r>
            <a:r>
              <a:rPr b="0" lang="el-GR" sz="2400" spc="-1" strike="noStrike">
                <a:solidFill>
                  <a:srgbClr val="ffffff"/>
                </a:solidFill>
                <a:latin typeface="Calibri"/>
                <a:ea typeface="Calibri"/>
              </a:rPr>
              <a:t>β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OHD, 17</a:t>
            </a:r>
            <a:r>
              <a:rPr b="0" lang="el-GR" sz="2400" spc="-1" strike="noStrike">
                <a:solidFill>
                  <a:srgbClr val="ffffff"/>
                </a:solidFill>
                <a:latin typeface="Calibri"/>
                <a:ea typeface="Calibri"/>
              </a:rPr>
              <a:t>α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OH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3"/>
          <p:cNvGrpSpPr/>
          <p:nvPr/>
        </p:nvGrpSpPr>
        <p:grpSpPr>
          <a:xfrm>
            <a:off x="617400" y="61920"/>
            <a:ext cx="7626600" cy="3852720"/>
            <a:chOff x="617400" y="61920"/>
            <a:chExt cx="7626600" cy="3852720"/>
          </a:xfrm>
        </p:grpSpPr>
        <p:pic>
          <p:nvPicPr>
            <p:cNvPr id="144" name="Picture 3" descr=""/>
            <p:cNvPicPr/>
            <p:nvPr/>
          </p:nvPicPr>
          <p:blipFill>
            <a:blip r:embed="rId1"/>
            <a:stretch/>
          </p:blipFill>
          <p:spPr>
            <a:xfrm>
              <a:off x="617400" y="61920"/>
              <a:ext cx="7626600" cy="38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1"/>
            <p:cNvSpPr/>
            <p:nvPr/>
          </p:nvSpPr>
          <p:spPr>
            <a:xfrm>
              <a:off x="1042560" y="1123920"/>
              <a:ext cx="1655640" cy="360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Rectangle 6"/>
            <p:cNvSpPr/>
            <p:nvPr/>
          </p:nvSpPr>
          <p:spPr>
            <a:xfrm>
              <a:off x="3706920" y="2492280"/>
              <a:ext cx="1657440" cy="360360"/>
            </a:xfrm>
            <a:prstGeom prst="rect">
              <a:avLst/>
            </a:prstGeom>
            <a:noFill/>
            <a:ln w="25560">
              <a:solidFill>
                <a:srgbClr val="5ff3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1042560" y="1844640"/>
              <a:ext cx="1655640" cy="360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6372360" y="1807920"/>
              <a:ext cx="1655640" cy="360360"/>
            </a:xfrm>
            <a:prstGeom prst="rect">
              <a:avLst/>
            </a:prstGeom>
            <a:noFill/>
            <a:ln w="25560">
              <a:solidFill>
                <a:srgbClr val="0bd0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 rot="5400000">
              <a:off x="2339640" y="1010880"/>
              <a:ext cx="1655640" cy="360360"/>
            </a:xfrm>
            <a:prstGeom prst="rect">
              <a:avLst/>
            </a:prstGeom>
            <a:noFill/>
            <a:ln w="25560">
              <a:solidFill>
                <a:srgbClr val="5ff3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0" name=""/>
          <p:cNvGraphicFramePr/>
          <p:nvPr/>
        </p:nvGraphicFramePr>
        <p:xfrm>
          <a:off x="250920" y="3933720"/>
          <a:ext cx="8569080" cy="268308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Enzyme defe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Key featu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Metabol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</a:t>
                      </a:r>
                      <a:r>
                        <a:rPr b="0" lang="el-GR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β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S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alt wasting, A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↑ 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DH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</a:t>
                      </a:r>
                      <a:r>
                        <a:rPr b="0" lang="el-GR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ydroxyl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alt wasting, A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↑ 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7OH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</a:rPr>
                        <a:t>11 </a:t>
                      </a:r>
                      <a:r>
                        <a:rPr b="0" lang="el-GR" sz="2000" spc="-1" strike="noStrike">
                          <a:solidFill>
                            <a:srgbClr val="5ff3ca"/>
                          </a:solidFill>
                          <a:latin typeface="Arial"/>
                          <a:ea typeface="Arial"/>
                        </a:rPr>
                        <a:t>β</a:t>
                      </a: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</a:rPr>
                        <a:t>Hydroxyl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</a:rPr>
                        <a:t>Hyperten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  <a:ea typeface="Arial"/>
                        </a:rPr>
                        <a:t>↑ </a:t>
                      </a: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  <a:ea typeface="Arial"/>
                        </a:rPr>
                        <a:t>11 DO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</a:rPr>
                        <a:t>17 </a:t>
                      </a:r>
                      <a:r>
                        <a:rPr b="0" lang="el-GR" sz="2000" spc="-1" strike="noStrike">
                          <a:solidFill>
                            <a:srgbClr val="5ff3ca"/>
                          </a:solidFill>
                          <a:latin typeface="Arial"/>
                          <a:ea typeface="Times New Roman"/>
                        </a:rPr>
                        <a:t>α</a:t>
                      </a: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  <a:ea typeface="Times New Roman"/>
                        </a:rPr>
                        <a:t> Hydroxyl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</a:rPr>
                        <a:t>Hyperten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  <a:ea typeface="Arial"/>
                        </a:rPr>
                        <a:t>↑ </a:t>
                      </a: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  <a:ea typeface="Arial"/>
                        </a:rPr>
                        <a:t>Progester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bdbfa"/>
                          </a:solidFill>
                          <a:latin typeface="Arial"/>
                        </a:rPr>
                        <a:t>17 </a:t>
                      </a:r>
                      <a:r>
                        <a:rPr b="0" lang="el-GR" sz="2000" spc="-1" strike="noStrike">
                          <a:solidFill>
                            <a:srgbClr val="6bdbfa"/>
                          </a:solidFill>
                          <a:latin typeface="Arial"/>
                          <a:ea typeface="Arial"/>
                        </a:rPr>
                        <a:t>β</a:t>
                      </a:r>
                      <a:r>
                        <a:rPr b="0" lang="en-GB" sz="2000" spc="-1" strike="noStrike">
                          <a:solidFill>
                            <a:srgbClr val="6bdbfa"/>
                          </a:solidFill>
                          <a:latin typeface="Arial"/>
                        </a:rPr>
                        <a:t>HS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bdbfa"/>
                          </a:solidFill>
                          <a:latin typeface="Arial"/>
                          <a:ea typeface="Arial"/>
                        </a:rPr>
                        <a:t>↑ </a:t>
                      </a:r>
                      <a:r>
                        <a:rPr b="0" lang="en-GB" sz="2000" spc="-1" strike="noStrike">
                          <a:solidFill>
                            <a:srgbClr val="6bdbfa"/>
                          </a:solidFill>
                          <a:latin typeface="Arial"/>
                          <a:ea typeface="Arial"/>
                        </a:rPr>
                        <a:t>Androstenedione, DH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14120"/>
            <a:ext cx="7315200" cy="115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bf5f9"/>
                </a:solidFill>
                <a:latin typeface="Arial"/>
              </a:rPr>
              <a:t>Clinical presentation with adrenal insufficiency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360" y="1267920"/>
            <a:ext cx="66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dual and nonspecific to hypotension or sh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hydration, weight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hargy or decreased feeding and sleep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oglyc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lyte imbalance - Hyponatraemia &amp; hyperkala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mary AI – Elevated ACTH and MSH can cause hyperpigmentation of the skin in the creases and mucous membra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H often present in the second week of lif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6012000" y="4437000"/>
            <a:ext cx="2970000" cy="2405520"/>
            <a:chOff x="6012000" y="4437000"/>
            <a:chExt cx="2970000" cy="2405520"/>
          </a:xfrm>
        </p:grpSpPr>
        <p:pic>
          <p:nvPicPr>
            <p:cNvPr id="154" name="Picture 2" descr=""/>
            <p:cNvPicPr/>
            <p:nvPr/>
          </p:nvPicPr>
          <p:blipFill>
            <a:blip r:embed="rId1"/>
            <a:stretch/>
          </p:blipFill>
          <p:spPr>
            <a:xfrm>
              <a:off x="6012000" y="4437000"/>
              <a:ext cx="2970000" cy="217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3"/>
            <p:cNvSpPr/>
            <p:nvPr/>
          </p:nvSpPr>
          <p:spPr>
            <a:xfrm>
              <a:off x="6012000" y="6611400"/>
              <a:ext cx="2970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owden &amp; Henry, IJP 201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0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Investigation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7640" y="1196640"/>
            <a:ext cx="8567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Salt wasting (mineralocorticoid compromi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/Es – trends in Na and K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lnSpc>
                <a:spcPct val="10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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nin,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ldoster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lnSpc>
                <a:spcPct val="10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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rinary sodium (prior to replace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Mineralocorticoid comprom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lood glucose monit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ynacthen te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Virilised male or fem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7O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1DO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Undervirilised m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HEAS, progesterone, Glycerol kin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315200" cy="51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Hyponatraemia in the newborn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197000"/>
            <a:ext cx="820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idence: Na+&lt;130 occurs in 25-30% of very low birth weight bab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iming of onset can distinguish caus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000"/>
                </a:solidFill>
                <a:latin typeface="Arial"/>
              </a:rPr>
              <a:t>Onset from birth</a:t>
            </a: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Maternal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abnormal fluid and electrolyte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nal diseases with abnormal electrol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Diuretic t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Malnutr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ligohydramn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Physical findings suggestive of abnormal electrolyte bal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- Oed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- Ascites, abdominal/flank m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8208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Calibri"/>
              </a:rPr>
              <a:t>Urination – P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Calibri"/>
              </a:rPr>
              <a:t>Salt and water balance – Day 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renocortical func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47840" indent="0">
              <a:lnSpc>
                <a:spcPct val="14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nad anatomy and endocrine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productive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00000" y="4005360"/>
          <a:ext cx="2737080" cy="1096920"/>
        </p:xfrm>
        <a:graphic>
          <a:graphicData uri="http://schemas.openxmlformats.org/drawingml/2006/table">
            <a:tbl>
              <a:tblPr/>
              <a:tblGrid>
                <a:gridCol w="586080"/>
                <a:gridCol w="21510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tisol nmol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3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47"/>
          <p:cNvSpPr/>
          <p:nvPr/>
        </p:nvSpPr>
        <p:spPr>
          <a:xfrm>
            <a:off x="826920" y="2349360"/>
            <a:ext cx="3889440" cy="47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a+ 137, K+ 4.6, urea &lt;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48"/>
          <p:cNvSpPr/>
          <p:nvPr/>
        </p:nvSpPr>
        <p:spPr>
          <a:xfrm>
            <a:off x="5465880" y="5661000"/>
            <a:ext cx="3457440" cy="86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US: uterus present, ovaries not seen, adrenals norm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itle 1"/>
          <p:cNvSpPr/>
          <p:nvPr/>
        </p:nvSpPr>
        <p:spPr>
          <a:xfrm>
            <a:off x="324000" y="378000"/>
            <a:ext cx="7315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Case G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47"/>
          <p:cNvSpPr/>
          <p:nvPr/>
        </p:nvSpPr>
        <p:spPr>
          <a:xfrm>
            <a:off x="4869000" y="2349360"/>
            <a:ext cx="3889080" cy="47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a+ </a:t>
            </a:r>
            <a:r>
              <a:rPr b="0" lang="en-GB" sz="1800" spc="-1" strike="noStrike">
                <a:solidFill>
                  <a:srgbClr val="ffc000"/>
                </a:solidFill>
                <a:latin typeface="Verdana"/>
              </a:rPr>
              <a:t>130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, K+ </a:t>
            </a:r>
            <a:r>
              <a:rPr b="0" lang="en-GB" sz="1800" spc="-1" strike="noStrike">
                <a:solidFill>
                  <a:srgbClr val="ffc000"/>
                </a:solidFill>
                <a:latin typeface="Verdana"/>
              </a:rPr>
              <a:t>7.8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, urea &lt;2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4869000" y="1887480"/>
            <a:ext cx="18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Calibri"/>
              </a:rPr>
              <a:t>Day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9280" y="1485720"/>
            <a:ext cx="820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3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aryotype 46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3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17OHP and Androgens </a:t>
            </a:r>
            <a:r>
              <a:rPr b="0" lang="en-GB" sz="2000" spc="-1" strike="noStrike">
                <a:solidFill>
                  <a:srgbClr val="ffc000"/>
                </a:solidFill>
                <a:latin typeface="Arial"/>
                <a:ea typeface="Arial"/>
              </a:rPr>
              <a:t>↑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3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ynacthen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573440" y="2492280"/>
            <a:ext cx="4175280" cy="239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stosterone </a:t>
            </a:r>
            <a:r>
              <a:rPr b="0" lang="en-GB" sz="1800" spc="-1" strike="noStrike">
                <a:solidFill>
                  <a:srgbClr val="ffc000"/>
                </a:solidFill>
                <a:latin typeface="Verdana"/>
              </a:rPr>
              <a:t>&gt;50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mol/l (nr 0-2.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ndrostenedione </a:t>
            </a:r>
            <a:r>
              <a:rPr b="0" lang="en-GB" sz="1800" spc="-1" strike="noStrike">
                <a:solidFill>
                  <a:srgbClr val="ffc000"/>
                </a:solidFill>
                <a:latin typeface="Verdana"/>
              </a:rPr>
              <a:t>&gt;30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mol/l (nr 0-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HEA 14.7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µmol/l (nr 1-1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TH 453 ng/l (nr 0-4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4360" y="3429000"/>
          <a:ext cx="2881080" cy="1279440"/>
        </p:xfrm>
        <a:graphic>
          <a:graphicData uri="http://schemas.openxmlformats.org/drawingml/2006/table">
            <a:tbl>
              <a:tblPr/>
              <a:tblGrid>
                <a:gridCol w="647640"/>
                <a:gridCol w="1081080"/>
                <a:gridCol w="1152360"/>
              </a:tblGrid>
              <a:tr h="54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tis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OHP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mol/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3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3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5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Text Box 52"/>
          <p:cNvSpPr/>
          <p:nvPr/>
        </p:nvSpPr>
        <p:spPr>
          <a:xfrm>
            <a:off x="684360" y="5589720"/>
            <a:ext cx="7777080" cy="886680"/>
          </a:xfrm>
          <a:prstGeom prst="rect">
            <a:avLst/>
          </a:prstGeom>
          <a:noFill/>
          <a:ln w="2844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Verdana"/>
              </a:rPr>
              <a:t>21-hydroxylase gene mutation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nalysis: homozygous for a mutation known to be associated with 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alt-wasting CA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7"/>
          <p:cNvSpPr/>
          <p:nvPr/>
        </p:nvSpPr>
        <p:spPr>
          <a:xfrm>
            <a:off x="4640400" y="1365120"/>
            <a:ext cx="3889080" cy="86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a 141, </a:t>
            </a:r>
            <a:r>
              <a:rPr b="0" lang="en-GB" sz="1800" spc="-1" strike="noStrike">
                <a:solidFill>
                  <a:srgbClr val="ffc000"/>
                </a:solidFill>
                <a:latin typeface="Verdana"/>
              </a:rPr>
              <a:t>K 4.2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, urea &lt;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nin </a:t>
            </a:r>
            <a:r>
              <a:rPr b="0" lang="en-GB" sz="1800" spc="-1" strike="noStrike">
                <a:solidFill>
                  <a:srgbClr val="ffc000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ng/ml/h (nr 0.5-2.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324000" y="378000"/>
            <a:ext cx="7315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Case G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000"/>
                </a:solidFill>
                <a:latin typeface="Arial"/>
                <a:ea typeface="ＭＳ Ｐゴシック"/>
              </a:rPr>
              <a:t>Management of salt wasting CAH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Hydrocortisone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10-15mg/m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alibri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/day, TDS,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4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ypical dose in neonates- 1.5-2mg, TDS, P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Fludrocortisone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150µg/m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alibri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/day in neonates, 50-100µg/m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alibri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/day in older children and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Salt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uring infancy 5-20mmol/kg/day (1-3g/d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Monitoring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90000"/>
              </a:lnSpc>
              <a:spcBef>
                <a:spcPts val="451"/>
              </a:spcBef>
              <a:buClr>
                <a:srgbClr val="dbf5f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gular growth measur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90000"/>
              </a:lnSpc>
              <a:spcBef>
                <a:spcPts val="451"/>
              </a:spcBef>
              <a:buClr>
                <a:srgbClr val="dbf5f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djustment of the dosage based on body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90000"/>
              </a:lnSpc>
              <a:spcBef>
                <a:spcPts val="451"/>
              </a:spcBef>
              <a:buClr>
                <a:srgbClr val="dbf5f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3 mo measurement of 17OHP profile initi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90000"/>
              </a:lnSpc>
              <a:spcBef>
                <a:spcPts val="451"/>
              </a:spcBef>
              <a:buClr>
                <a:srgbClr val="dbf5f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24hr Cortisol profile - rar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1159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Secondary and tertiary adrenal insufficiency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11280" y="1628640"/>
          <a:ext cx="7315200" cy="397836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Congenital abnormalities of the pituitary gl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 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a) Septo-optic dysplas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 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b) Pituitary aplasia/hypoplas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 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c) Agenesis of corticotro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 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d) POM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Destruction of the pituitary gland or hypothalam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a) Tumour rela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b) Pituitary apoplexy – very r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1773360"/>
            <a:ext cx="7315200" cy="12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Congenital hypopituitarism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971640" y="335772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Where does the word ‘ Pituitary’ come fro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bf5f9"/>
                </a:solidFill>
                <a:latin typeface="Arial"/>
              </a:rPr>
              <a:t>The Pituitary</a:t>
            </a:r>
            <a:br>
              <a:rPr sz="4300"/>
            </a:br>
            <a:endParaRPr b="0" lang="en-US" sz="43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55640" y="220500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55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rived from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ituit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Latin) for phleg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alen hypothesised that nasal phlegm originated from the brain and drained into the pituitar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sists of anterior pituitary and posterior pituita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Arial"/>
              </a:rPr>
              <a:t>Pituitary Development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80" name="Picture 3" descr="pituitary development"/>
          <p:cNvPicPr/>
          <p:nvPr/>
        </p:nvPicPr>
        <p:blipFill>
          <a:blip r:embed="rId1"/>
          <a:srcRect l="4507" t="7747" r="0" b="9677"/>
          <a:stretch/>
        </p:blipFill>
        <p:spPr>
          <a:xfrm>
            <a:off x="233280" y="909720"/>
            <a:ext cx="8682120" cy="40003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54720" y="4952880"/>
            <a:ext cx="77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vagination of the stromodeal ectoderm from buccal c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05120" y="5334120"/>
            <a:ext cx="85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nfundibulum, neural stalk and posterior lobe from diencephal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2160" y="5715000"/>
            <a:ext cx="60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evelopment 3rd to the 15th week ge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476360" y="42840"/>
            <a:ext cx="662292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Arial"/>
              </a:rPr>
              <a:t>Anterior Pituitary Gland </a:t>
            </a:r>
            <a:r>
              <a:rPr b="0" lang="en-US" sz="2800" spc="-1" strike="noStrike">
                <a:solidFill>
                  <a:srgbClr val="dbf5f9"/>
                </a:solidFill>
                <a:latin typeface="Arial"/>
              </a:rPr>
              <a:t>‘master gland’</a:t>
            </a:r>
            <a:endParaRPr b="0" lang="en-US" sz="2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01480" indent="-182520">
              <a:lnSpc>
                <a:spcPct val="8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jor blood source: hypothalamic-pituitary portal plex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lows transmission of hypothalamic peptide pulses without significant systemic di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sequently, pituitary cells are exposed to sharp spikes of releasing factors and in turn release their hormones as discrete pul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8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duction of six major hormon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spcBef>
                <a:spcPts val="499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lactin (PR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spcBef>
                <a:spcPts val="499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rowth hormone (G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spcBef>
                <a:spcPts val="499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drenocorticotropin hormone (AC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spcBef>
                <a:spcPts val="499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uteinizing hormone (L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spcBef>
                <a:spcPts val="499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ollicle-stimulating hormone (FS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spcBef>
                <a:spcPts val="499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yroid-stimulating hormone (TSH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777564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Arial"/>
              </a:rPr>
              <a:t>Congenital hypopituitarism +/- adrenal insufficiency - causes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Perinatal insults (eg, traumatic delivery, birth asphyxia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Interrupted pituitary s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Absent or ectopic neurohypoph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Pallister-Hall syndr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Developmental central nervous system (CNS) defec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Anenceph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Holoprosenceph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Pituitary aplasia or hypopl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51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Hyponatraemia in the newborn II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920" y="1197000"/>
            <a:ext cx="820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Gradual hyponatraemia in the first days of lif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reflects a few condition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Prematurity – renal lo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Fluid retention (+/- hypervolaemia) – renal filtration problems, SIAD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Salt wasting conditions (+/- hypovolaemia) – diuretics, hypoaldosteronism (adrenal +/-  disorders of sex development (DSD)), pseudohypoaldosteronism (transient in UTIs or geneti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onic hyponatraemia in preterms is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not benig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may cause poor growth and developmental del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Normal neonatal Na+ replacement  = 3mmol/kg/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Arial"/>
              </a:rPr>
              <a:t>Hypopituitarism - cause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380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al and genetic cau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81320" indent="-17496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spl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58080" indent="-1749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to-Optic dyspla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81320" indent="-17496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al hypothalamic dys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58080" indent="-1749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lman Synd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58080" indent="-1749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urence-Moon-Bardet-Biedl Synd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58080" indent="-1749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hlich Syndrome (Adipose Genital Dystroph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051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quired cau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iltrative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anial ir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ymphocytic hypophys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tuitary Apople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ty Sella syndr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Arial"/>
              </a:rPr>
              <a:t>Hypopituitarism: Genetic</a:t>
            </a:r>
            <a:endParaRPr b="0" lang="en-US" sz="2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4920" y="1142640"/>
            <a:ext cx="844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01480" indent="-182520">
              <a:lnSpc>
                <a:spcPct val="70000"/>
              </a:lnSpc>
              <a:spcBef>
                <a:spcPts val="700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Septo-Optic dys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riad of dysgenesis of the optic nerves, septum pellucidum, corpus callos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Affected children may have mutations in the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HESX1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gene - involved in early development of the ventral prosencephal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Featu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optic atrop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icropen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cleft pal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syndactyl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ear deform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hypertelor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Anos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Pituitary dys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Diabetes insipid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GH deficiency (IUGR/SGA, hypoglycaemia in infancy, short stature in later childho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Occasionally TSH deficienc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40464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f5f9"/>
                </a:solidFill>
                <a:latin typeface="Calibri"/>
                <a:ea typeface="Calibri"/>
              </a:rPr>
              <a:t>Case HP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784872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 2 week old male infant on SCBU has poor feeding, lethargy, 2 episodes of hypoglycaem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orn at term, 2850 g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ormal feeding, undescended tes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858960" y="3056040"/>
          <a:ext cx="7273800" cy="3565440"/>
        </p:xfrm>
        <a:graphic>
          <a:graphicData uri="http://schemas.openxmlformats.org/drawingml/2006/table">
            <a:tbl>
              <a:tblPr/>
              <a:tblGrid>
                <a:gridCol w="3636720"/>
                <a:gridCol w="36370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nvestig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Liver fun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otal bilirubin  / Direct bilirubi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80 / 60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mol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LP, AST, GG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550, 100, 105 U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Thyroid fun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S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.1 mU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Free T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1.5 (15-30) pmol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Random Cortis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50 nmol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Random 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.5 and 2.1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m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f5f9"/>
                </a:solidFill>
                <a:latin typeface="Arial"/>
              </a:rPr>
              <a:t>Case HP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7848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oes this child need a HIDA scan to exclude biliary atres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e the TFTs most likely to reflect sick euthyroid syndro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n random GH levels be interpre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f5f9"/>
                </a:solidFill>
                <a:latin typeface="Arial"/>
              </a:rPr>
              <a:t>Case HP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84872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oes this child need a HIDA scan to exclude biliary atresi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bnormal HIDA scan can be seen with congenital hypopituitarism, leading to incorrect diagnosis of biliary hypoplasia / atres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bf5f9"/>
                </a:solidFill>
                <a:latin typeface="Arial"/>
              </a:rPr>
              <a:t>Congenital Hypopituitarism and Neonatal Hepatitis</a:t>
            </a:r>
            <a:endParaRPr b="0" lang="en-US" sz="43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5075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onatal hepatitis is commonly seen in severe congenital hypopituitar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sed by giant cell hepatitis and biliary duct hypoplas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ver function may show obstruction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P), injury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T, AST, GGT) or bo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ay et al Acta Paediatr 2000; 89: 951-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op et al Acta Paediatr Scand 1979; 68: 277-8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bf5f9"/>
                </a:solidFill>
                <a:latin typeface="Arial"/>
              </a:rPr>
              <a:t>Congenital Hypopituitarism and Neonatal Hepatitis</a:t>
            </a:r>
            <a:endParaRPr b="0" lang="en-US" sz="43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 levels of GH, thyroxine and cortisol thought to be needed for normal hepatocyte and bile duct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75% infants LFT returned to normal by 6 weeks with replacement therap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neonatal hepatitis is present and replacement therapy is markedly delayed (yrs) irreversible liver disease may occ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ray et al Acta Paediatr 2000; 89: 951-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op et al Acta Paediatr Scand 1979; 68: 277-8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f5f9"/>
                </a:solidFill>
                <a:latin typeface="Arial"/>
              </a:rPr>
              <a:t>Case HP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68000" y="1844640"/>
            <a:ext cx="85676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e the TFTs most likely to reflect sick euthyroid syndro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linical picture is strongly suggestive of hypopituitarism. Important to always consider a diagnosis of hypopituitarism in any child thought to have sick euthyoid syndr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f5f9"/>
                </a:solidFill>
                <a:latin typeface="Arial"/>
              </a:rPr>
              <a:t>Case HP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68000" y="2204640"/>
            <a:ext cx="8496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n random GH levels be interpre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first 4-8 weeks of life GH secretion exhibits a markedly elevated baseline with increased pulse amplitude. The only time in life when random GH measurements are meaningful because the baseline is continuously elev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nblath et al J. Clin Endocrinol Metab 1965; 25: 209-1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Zegher et al. J Clin Endocrinol Metab 1993; 76: 1177-8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dbf5f9"/>
                </a:solidFill>
                <a:latin typeface="Arial"/>
              </a:rPr>
              <a:t>Take Home Message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3640" y="3645000"/>
            <a:ext cx="856908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ways consider hypopituitarism as the cause of neonatal hepatit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specially in the jaundiced male with undescended tes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315200" cy="51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Hyponatraemia in the newborn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48000" y="1341000"/>
            <a:ext cx="3816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1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he speed of correction depends on the speed of the onset of hyponatremia: acute changes may be treated more rapidly, but chronic changes require slower treat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11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Plasma Na+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  <a:ea typeface="Calibri"/>
              </a:rPr>
              <a:t>should not increase by more than 8–12 mEq/L in the first 24 hour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to avoid both cerebral oedema and the risk of pontine myelinoly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6"/>
          <p:cNvGrpSpPr/>
          <p:nvPr/>
        </p:nvGrpSpPr>
        <p:grpSpPr>
          <a:xfrm>
            <a:off x="179280" y="1125360"/>
            <a:ext cx="4824360" cy="4734000"/>
            <a:chOff x="179280" y="1125360"/>
            <a:chExt cx="4824360" cy="4734000"/>
          </a:xfrm>
        </p:grpSpPr>
        <p:grpSp>
          <p:nvGrpSpPr>
            <p:cNvPr id="104" name="Group 4"/>
            <p:cNvGrpSpPr/>
            <p:nvPr/>
          </p:nvGrpSpPr>
          <p:grpSpPr>
            <a:xfrm>
              <a:off x="183600" y="1494360"/>
              <a:ext cx="4820040" cy="4365000"/>
              <a:chOff x="183600" y="1494360"/>
              <a:chExt cx="4820040" cy="4365000"/>
            </a:xfrm>
          </p:grpSpPr>
          <p:pic>
            <p:nvPicPr>
              <p:cNvPr id="105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91880" y="1494360"/>
                <a:ext cx="4811760" cy="403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TextBox 3"/>
              <p:cNvSpPr/>
              <p:nvPr/>
            </p:nvSpPr>
            <p:spPr>
              <a:xfrm>
                <a:off x="183600" y="5598000"/>
                <a:ext cx="4811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Marcialis et al,  J Matern Fetal Neonatal Med. 2011 Oct; 24 Suppl 1:75-9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TextBox 5"/>
            <p:cNvSpPr/>
            <p:nvPr/>
          </p:nvSpPr>
          <p:spPr>
            <a:xfrm>
              <a:off x="179280" y="1125360"/>
              <a:ext cx="48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iseases associated with neonatal hyponatrem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6200" y="2743200"/>
            <a:ext cx="82314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Questions???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12" name="Picture 3" descr="logo"/>
          <p:cNvPicPr/>
          <p:nvPr/>
        </p:nvPicPr>
        <p:blipFill>
          <a:blip r:embed="rId1"/>
          <a:srcRect l="0" t="0" r="58773" b="0"/>
          <a:stretch/>
        </p:blipFill>
        <p:spPr>
          <a:xfrm>
            <a:off x="7543800" y="0"/>
            <a:ext cx="160020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315200" cy="51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Hyponatraemia - investigation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920" y="1196640"/>
            <a:ext cx="8208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Obser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ight and B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ine genita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Blo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/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nin and aldoster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rtisol or synacthen test with AC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FT (if midline defects or hypopituitarism suspec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7OHP (if virilis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HEAS, Androstenedione, Testosterone (if CAH suspec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aryotype (if genitalia ambiguous or bilateral undescended test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U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S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rine sodium excre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rine steroid pro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315200" cy="51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Hyponatraemia treatment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4080" y="2997360"/>
            <a:ext cx="8208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185040" indent="-14760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fluid retention – for fluid restri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5040" indent="-14760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salt losses - Treatment with 5% Dex+ 0.45%NaCl  - 0.9% Saline solution I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5040" indent="-14760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ck U/E 2 hourly to look at tr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5040" indent="-14760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rect by no more than 8 - 12 mmol/L/day to avoid rapid fluid shifts in the br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5040" indent="-14760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losses are greater than correction, consider a replacement using a sodium deficit calcul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380440" cy="1617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3635280" y="5661000"/>
            <a:ext cx="51912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  <a:ea typeface="ＭＳ Ｐゴシック"/>
              </a:rPr>
              <a:t>Case IR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orn preterm at 31 wk of GA at Bury hos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itial 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ransferred to RMCH neonatal unit at </a:t>
            </a: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7 days of age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for hyponatremia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644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epsis, feeding intolerance &amp; poor venou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644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solving</a:t>
            </a: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 potassium K+- 5.6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sanguineous parents, Uncomplicated pregn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644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MSU - n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linical 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644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No dysmorphic features, Normal female external genit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reated with IV antibiotics and IV flui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On </a:t>
            </a: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D12 Na-117, K-8.4, UNa-170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ith very difficult venou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Calibri"/>
                <a:ea typeface="ＭＳ Ｐゴシック"/>
              </a:rPr>
              <a:t>NICU- Progres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rtisol-243 nmol/l, 17OHP-8.9nmol/l, Renin and Aldo pe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7 - </a:t>
            </a: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Renin 84.5 (0.2-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Hickman line inserted under cover of IM hydrocortisone (D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ynacthen test (D1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CTH-13ng/l (0-4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Aldosterone 595pmol/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90880" y="3068640"/>
          <a:ext cx="5040360" cy="1604880"/>
        </p:xfrm>
        <a:graphic>
          <a:graphicData uri="http://schemas.openxmlformats.org/drawingml/2006/table">
            <a:tbl>
              <a:tblPr/>
              <a:tblGrid>
                <a:gridCol w="2808360"/>
                <a:gridCol w="1008000"/>
                <a:gridCol w="1224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orbel"/>
                          <a:ea typeface="ＭＳ Ｐゴシック"/>
                        </a:rPr>
                        <a:t>0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orbel"/>
                          <a:ea typeface="ＭＳ Ｐゴシック"/>
                        </a:rPr>
                        <a:t>30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orbel"/>
                          <a:ea typeface="ＭＳ Ｐゴシック"/>
                        </a:rPr>
                        <a:t>Cortisol (nmo/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orbel"/>
                          <a:ea typeface="ＭＳ Ｐゴシック"/>
                        </a:rPr>
                        <a:t>3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orbel"/>
                          <a:ea typeface="ＭＳ Ｐゴシック"/>
                        </a:rPr>
                        <a:t>9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orbel"/>
                          <a:ea typeface="ＭＳ Ｐゴシック"/>
                        </a:rPr>
                        <a:t>17OHP (nmol/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orbel"/>
                          <a:ea typeface="ＭＳ Ｐゴシック"/>
                        </a:rPr>
                        <a:t>2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70"/>
          <p:cNvSpPr/>
          <p:nvPr/>
        </p:nvSpPr>
        <p:spPr>
          <a:xfrm>
            <a:off x="249480" y="5835600"/>
            <a:ext cx="64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000"/>
                </a:solidFill>
                <a:latin typeface="Calibri"/>
                <a:ea typeface="Calibri"/>
              </a:rPr>
              <a:t>Electrolytes normalised by combination of NaHCO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000"/>
                </a:solidFill>
                <a:latin typeface="Calibri"/>
                <a:ea typeface="Calibri"/>
              </a:rPr>
              <a:t>NaCl, Renastart feeds and NaResonium (Na- 25mmol/kg/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bf5f9"/>
                </a:solidFill>
                <a:latin typeface="Arial"/>
                <a:ea typeface="ＭＳ Ｐゴシック"/>
              </a:rPr>
              <a:t>Genetic confirmation of the diagnosis - PHA type 1 Multiple target organ defect</a:t>
            </a:r>
            <a:br>
              <a:rPr sz="4400"/>
            </a:b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Homozygous donor splice site mutation in intron 12 of </a:t>
            </a:r>
            <a:r>
              <a:rPr b="1" i="1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SCNN1B</a:t>
            </a:r>
            <a:r>
              <a:rPr b="1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 gene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: c.1542+1G&gt;A (p.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Codes for </a:t>
            </a:r>
            <a:r>
              <a:rPr b="1" lang="el-GR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β</a:t>
            </a:r>
            <a:r>
              <a:rPr b="1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 subunit of Epithelial sodium channel (ENaC) 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ich facilitates aldosterone mediated Na reabsorption at distal nephron, colon, airways, sweat &amp; salivary g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50920" y="4294080"/>
            <a:ext cx="3343320" cy="244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4788000" y="3824280"/>
            <a:ext cx="3960720" cy="29894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4427640" y="3968640"/>
            <a:ext cx="4537080" cy="25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kae Mars (RW3) CMFT Manchester</dc:creator>
  <dc:description/>
  <dc:language>en-US</dc:language>
  <cp:lastModifiedBy>Grothusen Ben (R0A) Manchester University NHS FT</cp:lastModifiedBy>
  <dcterms:modified xsi:type="dcterms:W3CDTF">2020-02-28T09:35:32Z</dcterms:modified>
  <cp:revision>176</cp:revision>
  <dc:subject/>
  <dc:title>PowerPoint Presentation</dc:title>
</cp:coreProperties>
</file>