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594-2C67-43D1-9214-568C9C9824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879B-98EC-433B-A225-D70023013AA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pool 8/4/8, Manchester 22/5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7DA-560B-44B0-9F49-E1D63E1A82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73AC-C4AA-4DC1-88B6-34600EB59A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E87F-FEC4-458D-A093-D3A33F1D4A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tesz G, Aynsley-Green A. Hyperinsulinism in infancy and childhood. </a:t>
            </a:r>
            <a:r>
              <a:rPr b="0" i="1" lang="en-GB" sz="700" spc="-1" strike="noStrike">
                <a:solidFill>
                  <a:srgbClr val="000000"/>
                </a:solidFill>
                <a:latin typeface="Arial"/>
              </a:rPr>
              <a:t>Ergeb Inn Med Kinderheilkd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1984;</a:t>
            </a: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:115-202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RHI formed in 1997 to urgently improve prognostic outcomes in treatment of HI. In 1999, a consensus statement agreed that  early referral to specialist centres was important in achieving this a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onatoloty: Clinical practice and procedure – Chapter 74 Management of Hyponatraemia, R.S. 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F5B-F03F-4490-8A1C-3A8ECF61F2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yponatremia in Preterm Neonates: Not a Benign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hael L. Moritz and Juan Carlos Ayus - Pediatrics November 2009, 124 (5) e1014-e10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CC05-54E5-43C4-B5B6-31F605693F1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LBW preterm infants with rapidly corrected Na, a higher incidence of spastic cerebral paralysis, neurosensorial auditory damage and behavioural problems has been observed – Bhatty SB et al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diatr Research 1997;41:140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41B-6B84-49FE-8017-4DD31B60DB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6DE7-61D4-44FF-9B52-472C33E4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5A3B-303A-4925-BF53-2FA4EA4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734F-E1E4-43D5-999D-7EBC1CB7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2549-0955-4C57-B8B4-B21CEB17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116-9F00-43CE-ABF3-6377FB20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6187-1D1A-432E-B657-E859E2D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C1C3-1FCE-483F-B52D-03ACC64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A97-9DCA-45B7-BA03-A3C2DBA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90A-794C-463C-9B97-4374D37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426C-3675-4E91-866E-ACE6B10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F4D0-4156-49F2-9517-73C0445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19B4-376C-4DCE-B61A-1858D6FB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BC68-053B-4886-AC5B-72F56F8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7B2-755A-4E0E-81DD-5D82C84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08C-0E2D-4FB0-811F-BB3830B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344-DF62-4740-90E5-FB58D93C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211-4728-40D1-B697-E7D44FF0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2DDD-7547-4273-B3CF-F54190D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ABF3-8F2D-4B04-B3F3-41BFD5A5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1329-A2C9-40AF-B331-19F1F6A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7D61-4DBE-479B-8F0E-1EEFE45E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6C45-D664-4BF5-939B-62288D7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0C84-ED74-4E7E-8F3D-C3B9EB9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E851-4899-47E3-BE84-D2298F8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361-69A1-49CF-999C-6BE99E229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76f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D7AE-C530-49A3-BBA8-60532ADD116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2AA-3462-4DBA-91F2-2223C6CAA1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981000"/>
            <a:ext cx="892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dbf5f9"/>
                </a:solidFill>
                <a:latin typeface="Arial"/>
              </a:rPr>
              <a:t>Hyponatraemia and adrenal axis disorders in the neonate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8000" y="2491920"/>
            <a:ext cx="731520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 Ska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eonatal Endocrine Study Day - 4Feb2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-4680" y="3068640"/>
            <a:ext cx="914868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659480" y="19080"/>
            <a:ext cx="44654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seudohypoaldosteronism (PHA)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haracterized by hypertension and hyperkal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Mineralocorticoid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HA is classified into Type 1 and Type 2 (adolescents and adul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3279600"/>
          <a:ext cx="8280360" cy="3368880"/>
        </p:xfrm>
        <a:graphic>
          <a:graphicData uri="http://schemas.openxmlformats.org/drawingml/2006/table">
            <a:tbl>
              <a:tblPr/>
              <a:tblGrid>
                <a:gridCol w="1439640"/>
                <a:gridCol w="3529080"/>
                <a:gridCol w="3311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 PHA Type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s in the amiloride-sensitive epithelial sodium channel gene (ENAC) or mineralocorticoid recepto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nary tract infections (UTI) +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 urinary tract anomal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, NaHCO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reson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io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Electrolyte imbalance condi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341360"/>
          <a:ext cx="8928000" cy="6272280"/>
        </p:xfrm>
        <a:graphic>
          <a:graphicData uri="http://schemas.openxmlformats.org/drawingml/2006/table">
            <a:tbl>
              <a:tblPr/>
              <a:tblGrid>
                <a:gridCol w="1844640"/>
                <a:gridCol w="1844640"/>
                <a:gridCol w="1919160"/>
                <a:gridCol w="1843200"/>
                <a:gridCol w="147636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doster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ologic aldosterone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by volume de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+,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cid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 alka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, poor fee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uria, polydipsia, FTT, Muscle weak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T, polyuria, polydip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 Type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dle syndr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2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loride t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5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conditions </a:t>
            </a: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in Neonates caused by congenital or acquired disorder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Hypothalamus (Central – terti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Pituitary (Central – Second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Adrenal glands (Prim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bf5f9"/>
                </a:solidFill>
                <a:latin typeface="Arial"/>
              </a:rPr>
              <a:t>Causes glucocorticoid deficiency and/or mineralocorticoid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Neonatal adrenal disorder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560" y="1341000"/>
            <a:ext cx="87138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worldw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at is the commonest cause of childhood adrenal disorders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3152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Prim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268280"/>
          <a:ext cx="8105760" cy="5105520"/>
        </p:xfrm>
        <a:graphic>
          <a:graphicData uri="http://schemas.openxmlformats.org/drawingml/2006/table">
            <a:tbl>
              <a:tblPr/>
              <a:tblGrid>
                <a:gridCol w="8105760"/>
              </a:tblGrid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Systemic disorder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Granulomatous diseases – TB (most common cause worldwid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rimary damage - Haemorrhage associated with eg. Meningococcal septicaemia (Waterhouse-Friderichsen syndrome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utoimmune disease (either isolated or as part of the polyglandular autoimmune syndrome) – rare in neon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Genetic disease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6520">
                <a:tc>
                  <a:txBody>
                    <a:bodyPr lIns="66600" rIns="66600" tIns="38160" bIns="38160" anchor="ctr">
                      <a:noAutofit/>
                    </a:bodyPr>
                    <a:p>
                      <a:pPr marL="4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erplasia (CAH) - 21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hydroxylase deficiency (21OHD -  most common cause in the UK), 3bHSD, 11OH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Peroxisomal defects (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drenoleukodystrophy, Zellweger syndr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Abnormal adrenal gland develop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ngenital adrenal hypoplasia - gene mutations (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X-1, SF1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Other genetic conditions – Triple A syndrome, FG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Neonatal salt wasting endocrine disorder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700280"/>
            <a:ext cx="8713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Salt wasting conditions occur if there is compromis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1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Mineralocorticoid productio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ue to adrenal enzyme pathway disorders – eg. 21OHD or 3bHSD CAH, aldosterone synthase de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2.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Resistance of receptors to aldosterone or disorders of the  renin-angiotensin pathwa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- Pseudohypoaldosteronism or RTA Type 4, U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Calibri"/>
              </a:rPr>
              <a:t>Salt wasting does not normally occur in pituitary related adrenal insufficiency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 or certain forms of CAH (1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β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, 17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OH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3"/>
          <p:cNvGrpSpPr/>
          <p:nvPr/>
        </p:nvGrpSpPr>
        <p:grpSpPr>
          <a:xfrm>
            <a:off x="617400" y="61920"/>
            <a:ext cx="7626600" cy="3852720"/>
            <a:chOff x="617400" y="61920"/>
            <a:chExt cx="7626600" cy="3852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17400" y="61920"/>
              <a:ext cx="7626600" cy="38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"/>
            <p:cNvSpPr/>
            <p:nvPr/>
          </p:nvSpPr>
          <p:spPr>
            <a:xfrm>
              <a:off x="1042560" y="112392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3706920" y="2492280"/>
              <a:ext cx="16574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042560" y="1844640"/>
              <a:ext cx="1655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372360" y="1807920"/>
              <a:ext cx="1655640" cy="360360"/>
            </a:xfrm>
            <a:prstGeom prst="rect">
              <a:avLst/>
            </a:prstGeom>
            <a:noFill/>
            <a:ln w="25560">
              <a:solidFill>
                <a:srgbClr val="0bd0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 rot="5400000">
              <a:off x="2339640" y="1010880"/>
              <a:ext cx="1655640" cy="360360"/>
            </a:xfrm>
            <a:prstGeom prst="rect">
              <a:avLst/>
            </a:prstGeom>
            <a:noFill/>
            <a:ln w="25560">
              <a:solidFill>
                <a:srgbClr val="5ff3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250920" y="3933720"/>
          <a:ext cx="8569080" cy="268308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Enzyme def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Key feat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Metabol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</a:t>
                      </a:r>
                      <a:r>
                        <a:rPr b="0" lang="el-GR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 wasting, A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OH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1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11 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α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Times New Roman"/>
                        </a:rPr>
                        <a:t> Hydroxyl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</a:rPr>
                        <a:t>Hyperten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5ff3ca"/>
                          </a:solidFill>
                          <a:latin typeface="Arial"/>
                          <a:ea typeface="Arial"/>
                        </a:rPr>
                        <a:t>Progester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17 </a:t>
                      </a:r>
                      <a:r>
                        <a:rPr b="0" lang="el-GR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</a:rPr>
                        <a:t>HS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↑ </a:t>
                      </a:r>
                      <a:r>
                        <a:rPr b="0" lang="en-GB" sz="2000" spc="-1" strike="noStrike">
                          <a:solidFill>
                            <a:srgbClr val="6bdbfa"/>
                          </a:solidFill>
                          <a:latin typeface="Arial"/>
                          <a:ea typeface="Arial"/>
                        </a:rPr>
                        <a:t>Androstenedione, DH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412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bf5f9"/>
                </a:solidFill>
                <a:latin typeface="Arial"/>
              </a:rPr>
              <a:t>Clinical presentation with adrenal insufficiency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267920"/>
            <a:ext cx="66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ual and nonspecific to hypotension or 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, weigh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hargy or decreased feeding and sleep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lyte imbalance - Hyponatraemia &amp; hyperkala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AI – Elevated ACTH and MSH can cause hyperpigmentation of the skin in the creases and mucous membr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1785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H often present in the second week of lif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6012000" y="4437000"/>
            <a:ext cx="2970000" cy="2405520"/>
            <a:chOff x="6012000" y="4437000"/>
            <a:chExt cx="2970000" cy="2405520"/>
          </a:xfrm>
        </p:grpSpPr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>
              <a:off x="6012000" y="4437000"/>
              <a:ext cx="2970000" cy="21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3"/>
            <p:cNvSpPr/>
            <p:nvPr/>
          </p:nvSpPr>
          <p:spPr>
            <a:xfrm>
              <a:off x="6012000" y="6611400"/>
              <a:ext cx="297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owden &amp; Henry, IJP 20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0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640" y="1196640"/>
            <a:ext cx="856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Salt wasting (mineralocorticoid comprom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s – trends in Na and K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,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lnSpc>
                <a:spcPct val="10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ary sodium (prior to repla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Mineralocorticoid comprom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ood glucos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nacthen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Virilised male or 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ndervirilised 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progesterone, Glycerol kin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: Na+&lt;130 occurs in 25-30% of very low birth weight bab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iming of onset can distinguish caus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</a:rPr>
              <a:t>Onset from birth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ternal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abnormal fluid and electrolyt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al diseases with abnormal electrol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iuretic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Malnutr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ligohydramn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hysical findings suggestive of abnormal electrolyt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O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- Ascites, abdominal/flank m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Urination – 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Salt and water balance – Day 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renocortical fun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47840" indent="0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nad anatomy and endocrin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roductiv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4005360"/>
          <a:ext cx="2737080" cy="1096920"/>
        </p:xfrm>
        <a:graphic>
          <a:graphicData uri="http://schemas.openxmlformats.org/drawingml/2006/table">
            <a:tbl>
              <a:tblPr/>
              <a:tblGrid>
                <a:gridCol w="586080"/>
                <a:gridCol w="2151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 nmol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7"/>
          <p:cNvSpPr/>
          <p:nvPr/>
        </p:nvSpPr>
        <p:spPr>
          <a:xfrm>
            <a:off x="826920" y="2349360"/>
            <a:ext cx="388944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137, K+ 4.6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5465880" y="5661000"/>
            <a:ext cx="345744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: uterus present, ovaries not seen, adrenals n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7"/>
          <p:cNvSpPr/>
          <p:nvPr/>
        </p:nvSpPr>
        <p:spPr>
          <a:xfrm>
            <a:off x="4869000" y="2349360"/>
            <a:ext cx="3889080" cy="4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13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K+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7.8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869000" y="1887480"/>
            <a:ext cx="18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Calibri"/>
              </a:rPr>
              <a:t>Day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148572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46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17OHP and Androgens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↑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3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ynacthe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3440" y="2492280"/>
            <a:ext cx="4175280" cy="239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stoster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5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.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drostenedione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&gt;30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mol/l (nr 0-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HEA 14.7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µmol/l (nr 1-1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H 453 ng/l (nr 0-4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3429000"/>
          <a:ext cx="2881080" cy="1279440"/>
        </p:xfrm>
        <a:graphic>
          <a:graphicData uri="http://schemas.openxmlformats.org/drawingml/2006/table">
            <a:tbl>
              <a:tblPr/>
              <a:tblGrid>
                <a:gridCol w="647640"/>
                <a:gridCol w="1081080"/>
                <a:gridCol w="115236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is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OHP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mol/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c000"/>
                          </a:solidFill>
                          <a:latin typeface="Verdana"/>
                        </a:rPr>
                        <a:t>5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52"/>
          <p:cNvSpPr/>
          <p:nvPr/>
        </p:nvSpPr>
        <p:spPr>
          <a:xfrm>
            <a:off x="684360" y="5589720"/>
            <a:ext cx="7777080" cy="886680"/>
          </a:xfrm>
          <a:prstGeom prst="rect">
            <a:avLst/>
          </a:prstGeom>
          <a:noFill/>
          <a:ln w="284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Verdana"/>
              </a:rPr>
              <a:t>21-hydroxylase gene mutation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alysis: homozygous for a mutation known to be associated with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alt-wasting CA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4640400" y="1365120"/>
            <a:ext cx="388908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 141,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K 4.2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urea &lt;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nin 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ng/ml/h (nr 0.5-2.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324000" y="378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ase G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Management of salt wasting CAH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Hy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0-15m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, TDS,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ypical dose in neonates- 1.5-2mg, TDS, 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Fludrocortison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15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neonates, 50-100µg/m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day in 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alt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uring infancy 5-20mmol/kg/day (1-3g/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onitoring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gular growth m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djustment of the dosage based on body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3 mo measurement of 17OHP profile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90000"/>
              </a:lnSpc>
              <a:spcBef>
                <a:spcPts val="451"/>
              </a:spcBef>
              <a:buClr>
                <a:srgbClr val="dbf5f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4hr Cortisol profile - rar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Secondary and tertiary adrenal insufficiency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628640"/>
          <a:ext cx="7315200" cy="397836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Congenital abnormalities of the pituitary g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Septo-optic dys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lasia/hypoplas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c) Agenesis of corticotrop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 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d) POM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Destruction of the pituitary gland or hypothalam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a) Tumour rel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440">
                <a:tc>
                  <a:txBody>
                    <a:bodyPr lIns="66600" rIns="6660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b) Pituitary apoplexy – very 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31520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Congenital hypopituitar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971640" y="3357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Where does the word ‘ Pituitary’ come fro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The Pituitary</a:t>
            </a:r>
            <a:br>
              <a:rPr sz="4300"/>
            </a:b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rived fro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ituit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Latin) for phleg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len hypothesised that nasal phlegm originated from the brain and drained into the pituita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ists of anterior pituitary and posterior pituit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Pituitary Develop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80" name="Picture 3" descr="pituitary development"/>
          <p:cNvPicPr/>
          <p:nvPr/>
        </p:nvPicPr>
        <p:blipFill>
          <a:blip r:embed="rId1"/>
          <a:srcRect l="4507" t="7747" r="0" b="9677"/>
          <a:stretch/>
        </p:blipFill>
        <p:spPr>
          <a:xfrm>
            <a:off x="233280" y="909720"/>
            <a:ext cx="8682120" cy="4000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54720" y="4952880"/>
            <a:ext cx="77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agination of the stromodeal ectoderm from buccal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5120" y="5334120"/>
            <a:ext cx="85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fundibulum, neural stalk and posterior lobe from diencepha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160" y="571500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 3rd to the 15th week g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76360" y="42840"/>
            <a:ext cx="66229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Arial"/>
              </a:rPr>
              <a:t>Anterior Pituitary Gland </a:t>
            </a: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‘master gland’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jor blood source: hypothalamic-pituitary portal plex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ows transmission of hypothalamic peptide pulses without significant systemic di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equently, pituitary cells are exposed to sharp spikes of releasing factors and in turn release their hormones as discrete pul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lnSpc>
                <a:spcPct val="8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ion of six major hormo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lactin (PR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owth hormone (G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renocorticotropin hormone (AC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uteinizing hormone (L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llicle-stimulating hormone (F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lnSpc>
                <a:spcPct val="80000"/>
              </a:lnSpc>
              <a:spcBef>
                <a:spcPts val="499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yroid-stimulating hormone (TSH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75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Arial"/>
              </a:rPr>
              <a:t>Congenital hypopituitarism +/- adrenal insufficiency - causes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erinatal insults (eg, traumatic delivery, birth asphyxi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rupted pituitary s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bsent or ectopic neurohypoph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allister-Hall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Developmental central nervous system (CNS) de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An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Holo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Calibri"/>
              </a:rPr>
              <a:t>Pituitary aplasia or hypo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 II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Gradual hyponatraemia in the first days of lif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reflects a few condition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rematurity – renal lo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Fluid retention (+/- hypervolaemia) – renal filtration problems, SIAD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Salt wasting conditions (+/- hypovolaemia) – diuretics, hypoaldosteronism (adrenal +/-  disorders of sex development (DSD)), pseudohypoaldosteronism (transient in UTIs or genet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hyponatraemia in preterms is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ot benig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may cause poor growth and developmental del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ormal neonatal Na+ replacement  = 3mmol/kg/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Hypopituitarism - caus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380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and genetic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o-Optic dyspla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1320" indent="-17496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al hypothalamic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lman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rence-Moon-Bardet-Biedl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58080" indent="-1749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hlich Syndrome (Adipose Genital Dystroph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051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ca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ir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ocytic hypophys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tuitary Apople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ty Sella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Arial"/>
              </a:rPr>
              <a:t>Hypopituitarism: Genetic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1142640"/>
            <a:ext cx="84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1480" indent="-182520">
              <a:lnSpc>
                <a:spcPct val="7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Septo-Optic dys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riad of dysgenesis of the optic nerves, septum pellucidum, 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ffected children may have mutations in the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ESX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gene - involved in early development of the ventral prosencephal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Fea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ptic atro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icropen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e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yndacty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ar deform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hypertelo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nos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ituitary dys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Diabetes insipi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H deficiency (IUGR/SGA, hypoglycaemia in infancy, short stature in later childho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lnSpc>
                <a:spcPct val="70000"/>
              </a:lnSpc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ccasionally TSH deficien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Calibri"/>
                <a:ea typeface="Calibri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7848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 2 week old male infant on SCBU has poor feeding, lethargy, 2 episodes of hypoglyca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rn at term, 2850 g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f5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ormal feeding, undescended tes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58960" y="3056040"/>
          <a:ext cx="7273800" cy="3565440"/>
        </p:xfrm>
        <a:graphic>
          <a:graphicData uri="http://schemas.openxmlformats.org/drawingml/2006/table">
            <a:tbl>
              <a:tblPr/>
              <a:tblGrid>
                <a:gridCol w="3636720"/>
                <a:gridCol w="36370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vestig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Liver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 bilirubin  / Direct bilirubi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80 / 6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P, AST, GG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50, 100, 105 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Thyroid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1 mU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ree T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.5 (15-30) p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Cortis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0 n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Random 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.5 and 2.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dbf5f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es this child need a HIDA scan to exclude biliary atres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normal HIDA scan can be seen with congenital hypopituitarism, leading to incorrect diagnosis of biliary hypoplasia / atr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5075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atal hepatitis is commonly seen in severe congenital hypopituitar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ed by giant cell hepatitis and biliary duct hypopl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 function may show obstruct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), injur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T, AST, GGT) or bo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bf5f9"/>
                </a:solidFill>
                <a:latin typeface="Arial"/>
              </a:rPr>
              <a:t>Congenital Hypopituitarism and Neonatal Hepatiti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levels of GH, thyroxine and cortisol thought to be needed for normal hepatocyte and bile duct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75% infants LFT returned to normal by 6 weeks with replacement 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eonatal hepatitis is present and replacement therapy is markedly delayed (yrs) irreversible liver disease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ray et al Acta Paediatr 2000; 89: 951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op et al Acta Paediatr Scand 1979; 68: 277-8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567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 the TFTs most likely to reflect sick euthyroid syndr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inical picture is strongly suggestive of hypopituitarism. Important to always consider a diagnosis of hypopituitarism in any child thought to have sick euthyoid syndr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Arial"/>
              </a:rPr>
              <a:t>Case HP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random GH levels be interpre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rst 4-8 weeks of life GH secretion exhibits a markedly elevated baseline with increased pulse amplitude. The only time in life when random GH measurements are meaningful because the baseline is continuously ele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nblath et al J. Clin Endocrinol Metab 1965; 25: 209-1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Zegher et al. J Clin Endocrinol Metab 1993; 76: 1177-8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bf5f9"/>
                </a:solidFill>
                <a:latin typeface="Arial"/>
              </a:rPr>
              <a:t>Take Home Messag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3645000"/>
            <a:ext cx="85690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consider hypopituitarism as the cause of neonatal hepat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specially in the jaundiced male with undescended tes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in the newborn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4800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speed of correction depends on the speed of the onset of hyponatremia: acute changes may be treated more rapidly, but chronic changes require slower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11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lasma Na+ 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  <a:ea typeface="Calibri"/>
              </a:rPr>
              <a:t>should not increase by more than 8–12 mEq/L in the first 24 hour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to avoid both cerebral oedema and the risk of pontine myelino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179280" y="1125360"/>
            <a:ext cx="4824360" cy="4734000"/>
            <a:chOff x="179280" y="1125360"/>
            <a:chExt cx="4824360" cy="4734000"/>
          </a:xfrm>
        </p:grpSpPr>
        <p:grpSp>
          <p:nvGrpSpPr>
            <p:cNvPr id="104" name="Group 4"/>
            <p:cNvGrpSpPr/>
            <p:nvPr/>
          </p:nvGrpSpPr>
          <p:grpSpPr>
            <a:xfrm>
              <a:off x="183600" y="1494360"/>
              <a:ext cx="4820040" cy="4365000"/>
              <a:chOff x="183600" y="1494360"/>
              <a:chExt cx="4820040" cy="4365000"/>
            </a:xfrm>
          </p:grpSpPr>
          <p:pic>
            <p:nvPicPr>
              <p:cNvPr id="10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880" y="1494360"/>
                <a:ext cx="4811760" cy="403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Box 3"/>
              <p:cNvSpPr/>
              <p:nvPr/>
            </p:nvSpPr>
            <p:spPr>
              <a:xfrm>
                <a:off x="183600" y="5598000"/>
                <a:ext cx="4811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Marcialis et al,  J Matern Fetal Neonatal Med. 2011 Oct; 24 Suppl 1:75-9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Box 5"/>
            <p:cNvSpPr/>
            <p:nvPr/>
          </p:nvSpPr>
          <p:spPr>
            <a:xfrm>
              <a:off x="179280" y="1125360"/>
              <a:ext cx="48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iseases associated with neonatal hyponatrem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200" y="2743200"/>
            <a:ext cx="82314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Questions???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2" name="Picture 3" descr="logo"/>
          <p:cNvPicPr/>
          <p:nvPr/>
        </p:nvPicPr>
        <p:blipFill>
          <a:blip r:embed="rId1"/>
          <a:srcRect l="0" t="0" r="58773" b="0"/>
          <a:stretch/>
        </p:blipFill>
        <p:spPr>
          <a:xfrm>
            <a:off x="7543800" y="0"/>
            <a:ext cx="16002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- investigation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19664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ight and B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ine genit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B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/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nin and aldoster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tisol or synacthen test with A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FT (if midline defects or hypopituitarism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7OHP (if virili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HEAS, Androstenedione, Testosterone (if CAH suspec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ryotype (if genitalia ambiguous or bilateral undescended tes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odium excr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ine steroid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315200" cy="5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</a:rPr>
              <a:t>Hyponatraemia treatmen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080" y="299736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fluid retention – for fluid restri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salt losses - Treatment with 5% Dex+ 0.45%NaCl  - 0.9% Saline solution I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U/E 2 hourly to look at tr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by no more than 8 - 12 mmol/L/day to avoid rapid fluid shifts in the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5040" indent="-147600">
              <a:spcBef>
                <a:spcPts val="499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losses are greater than correction, consider a replacement using a sodium deficit calcu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380440" cy="161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635280" y="5661000"/>
            <a:ext cx="51912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Case IR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orn preterm at 31 wk of GA at Bur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itial 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ansferred to RMCH neonatal unit at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7 days of age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or hyponatremia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psis, feeding intolerance &amp; poor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solving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potassium K+- 5.6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anguineous parents, Uncomplicated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MSU -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9644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dysmorphic features, Normal female external gen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reated with IV antibiotics and IV flu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D12 Na-117, K-8.4, UNa-170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ith very difficult venou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f5f9"/>
                </a:solidFill>
                <a:latin typeface="Calibri"/>
                <a:ea typeface="ＭＳ Ｐゴシック"/>
              </a:rPr>
              <a:t>NICU- Progres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rtisol-243 nmol/l, 17OHP-8.9nmol/l, Renin and Aldo 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7 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Renin 84.5 (0.2-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ickman line inserted under cover of IM hydrocortisone (D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ynacthen test (D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TH-13ng/l (0-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Aldosterone 595pmol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90880" y="3068640"/>
          <a:ext cx="5040360" cy="1604880"/>
        </p:xfrm>
        <a:graphic>
          <a:graphicData uri="http://schemas.openxmlformats.org/drawingml/2006/table">
            <a:tbl>
              <a:tblPr/>
              <a:tblGrid>
                <a:gridCol w="2808360"/>
                <a:gridCol w="1008000"/>
                <a:gridCol w="122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0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Cortisol (nmo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3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9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17OHP (nmol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orbel"/>
                          <a:ea typeface="ＭＳ Ｐゴシック"/>
                        </a:rPr>
                        <a:t>2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0"/>
          <p:cNvSpPr/>
          <p:nvPr/>
        </p:nvSpPr>
        <p:spPr>
          <a:xfrm>
            <a:off x="249480" y="5835600"/>
            <a:ext cx="64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Electrolytes normalised by combination of NaHCO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Calibri"/>
                <a:ea typeface="Calibri"/>
              </a:rPr>
              <a:t>NaCl, Renastart feeds and NaResonium (Na- 25mmol/k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bf5f9"/>
                </a:solidFill>
                <a:latin typeface="Arial"/>
                <a:ea typeface="ＭＳ Ｐゴシック"/>
              </a:rPr>
              <a:t>Genetic confirmation of the diagnosis - PHA type 1 Multiple target organ defect</a:t>
            </a:r>
            <a:br>
              <a:rPr sz="44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omozygous donor splice site mutation in intron 12 of </a:t>
            </a:r>
            <a:r>
              <a:rPr b="1" i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SCNN1B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gene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 c.1542+1G&gt;A (p.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dbf5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Codes for </a:t>
            </a:r>
            <a:r>
              <a:rPr b="1" lang="el-GR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β</a:t>
            </a:r>
            <a:r>
              <a:rPr b="1" lang="en-GB" sz="2400" spc="-1" strike="noStrike">
                <a:solidFill>
                  <a:srgbClr val="ffc000"/>
                </a:solidFill>
                <a:latin typeface="Calibri"/>
                <a:ea typeface="ＭＳ Ｐゴシック"/>
              </a:rPr>
              <a:t> subunit of Epithelial sodium channel (ENaC)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ich facilitates aldosterone mediated Na reabsorption at distal nephron, colon, airways, sweat &amp; salivary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50920" y="4294080"/>
            <a:ext cx="334332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788000" y="3824280"/>
            <a:ext cx="3960720" cy="2989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427640" y="3968640"/>
            <a:ext cx="4537080" cy="2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ae Mars (RW3) CMFT Manchester</dc:creator>
  <dc:description/>
  <dc:language>en-US</dc:language>
  <cp:lastModifiedBy>Grothusen Ben (R0A) Manchester University NHS FT</cp:lastModifiedBy>
  <dcterms:modified xsi:type="dcterms:W3CDTF">2020-02-28T09:35:32Z</dcterms:modified>
  <cp:revision>176</cp:revision>
  <dc:subject/>
  <dc:title>PowerPoint Presentation</dc:title>
</cp:coreProperties>
</file>