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A054-8983-4220-8C0B-6F57C13B56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E17-0DF2-4BE1-AAD0-CAAC8F15294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pool 8/4/8, Manchester 22/5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46C0-ECB4-49C1-9D85-56832CBDCE1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tesz G, Aynsley-Green A. Hyperinsulinism in infancy and childhood.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Ergeb Inn Med Kinderheilkd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1984;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:115-202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RHI formed in 1997 to urgently improve prognostic outcomes in treatment of HI. In 1999, a consensus statement agreed that  early referral to specialist centres was important in achieving this a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E494-5232-4CE3-A8CD-F2C3A2A94BF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tesz G, Aynsley-Green A. Hyperinsulinism in infancy and childhood.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Ergeb Inn Med Kinderheilkd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1984;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:115-202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RHI formed in 1997 to urgently improve prognostic outcomes in treatment of HI. In 1999, a consensus statement agreed that  early referral to specialist centres was important in achieving this a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B9CC-EB3F-44D3-816D-F4840F0654D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tesz G, Aynsley-Green A. Hyperinsulinism in infancy and childhood.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Ergeb Inn Med Kinderheilkd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1984;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:115-202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RHI formed in 1997 to urgently improve prognostic outcomes in treatment of HI. In 1999, a consensus statement agreed that  early referral to specialist centres was important in achieving this a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onatoloty: Clinical practice and procedure – Chapter 74 Management of Hyponatraemia, R.S. Co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41F8-24CA-46B2-BB8B-9C5F684FAA9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Hyponatremia in Preterm Neonates: Not a Benign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hael L. Moritz and Juan Carlos Ayus - Pediatrics November 2009, 124 (5) e1014-e10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C1C7-8C4B-4D0C-972B-0CBC04C268B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VLBW preterm infants with rapidly corrected Na, a higher incidence of spastic cerebral paralysis, neurosensorial auditory damage and behavioural problems has been observed – Bhatty SB et al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diatr Research 1997;41:140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7F46-F386-4DDF-B380-61069B8325F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9210-7D2E-4619-8CDB-62BA5D3F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BDED-63D0-4B26-984F-ECBEE85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5363-B43D-4B7F-BB57-736613D1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F901-550C-45EE-9E11-BC8F96FE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04D3-B3E7-491C-81DE-9453C725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06C0-3B69-40CB-92F9-322527BE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B175-6FB7-403A-B96B-FFF20A52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1E75-AA1E-4195-ACF9-543CCB4D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D368-125C-42F8-995A-2011CDE6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13C-9911-443B-B324-956C7D93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6CA3-3DB8-4B55-B0FB-FE9E8624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7EF2-64D3-4037-B17E-DD8085AD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F2E7-A820-4F1F-8854-DF703F8B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262D-C5B3-4699-B31A-C942A10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6DBE-9924-40D8-92FB-999B9EB2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94D6-46BC-4862-B87A-E4B8FF3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04E8-8784-4C2A-AD63-A0B7BBDF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A788-D49D-472A-9830-24A655B9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B5C8-821F-4B4D-A7C8-74400208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A07D-0404-4A8E-9A46-E74DC480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B810-414A-4B19-A46B-4470C98A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1090-83C9-4BF7-8CAD-5AC10A2D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88CA-77EE-4ABB-AAB6-64D561B2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D5EA-BD2E-4AA2-96BB-4E56C70F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576f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A520-4C9B-4A47-AC0B-B132742954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576f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F9E-DDB3-44CE-B34B-DD3CD2CA9CA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92ED-FF4A-4EFB-AEF9-2D0AF768A17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981000"/>
            <a:ext cx="8928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dbf5f9"/>
                </a:solidFill>
                <a:latin typeface="Arial"/>
              </a:rPr>
              <a:t>Hyponatraemia and adrenal axis disorders in the neonate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8000" y="2491920"/>
            <a:ext cx="731520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 Ska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Neonatal Endocrine Study Day - 4Feb2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-4680" y="3068640"/>
            <a:ext cx="9148680" cy="381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659480" y="19080"/>
            <a:ext cx="446544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Pseudohypoaldosteronism (PHA)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483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HA is characterized by hypertension and hyperkal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Due to Mineralocorticoid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HA is classified into Type 1 and Type 2 (adolescents and adul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3279600"/>
          <a:ext cx="8280360" cy="3368880"/>
        </p:xfrm>
        <a:graphic>
          <a:graphicData uri="http://schemas.openxmlformats.org/drawingml/2006/table">
            <a:tbl>
              <a:tblPr/>
              <a:tblGrid>
                <a:gridCol w="1439640"/>
                <a:gridCol w="3529080"/>
                <a:gridCol w="3311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 PHA Type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ary PHA Type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ions in the amiloride-sensitive epithelial sodium channel gene (ENAC) or mineralocorticoid recepto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ary tract infections (UTI) +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 urinary tract anomali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, NaHCO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reson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Electrolyte imbalance condition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1483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341360"/>
          <a:ext cx="8928000" cy="6272280"/>
        </p:xfrm>
        <a:graphic>
          <a:graphicData uri="http://schemas.openxmlformats.org/drawingml/2006/table">
            <a:tbl>
              <a:tblPr/>
              <a:tblGrid>
                <a:gridCol w="1844640"/>
                <a:gridCol w="1844640"/>
                <a:gridCol w="1919160"/>
                <a:gridCol w="1843200"/>
                <a:gridCol w="147636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doster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doster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doster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ologic aldosteron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by volume deple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lka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cid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lka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lka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hargy, poor fee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hargy, poor fee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uria, polydipsia, FTT, Muscle weak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T, polyuria, polydip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2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 Type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dle syndr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2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loride t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515680"/>
            <a:ext cx="7315200" cy="15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f5f9"/>
                </a:solidFill>
                <a:latin typeface="Arial"/>
              </a:rPr>
              <a:t>Neonatal Adrenal Disorder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Neonatal adrenal disorder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1341000"/>
            <a:ext cx="87138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Adrenal conditions </a:t>
            </a:r>
            <a:r>
              <a:rPr b="0" lang="en-GB" sz="2400" spc="-1" strike="noStrike">
                <a:solidFill>
                  <a:srgbClr val="dbf5f9"/>
                </a:solidFill>
                <a:latin typeface="Arial"/>
              </a:rPr>
              <a:t>in Neonates caused by congenital or acquired disorders of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Hypothalamus (Central – terti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Pituitary (Central – Second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Adrenal glands (Prim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bf5f9"/>
                </a:solidFill>
                <a:latin typeface="Arial"/>
              </a:rPr>
              <a:t>Causes glucocorticoid deficiency and/or mineralocorticoid de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logo"/>
          <p:cNvPicPr/>
          <p:nvPr/>
        </p:nvPicPr>
        <p:blipFill>
          <a:blip r:embed="rId1"/>
          <a:srcRect l="0" t="0" r="58773" b="0"/>
          <a:stretch/>
        </p:blipFill>
        <p:spPr>
          <a:xfrm>
            <a:off x="7543800" y="0"/>
            <a:ext cx="1600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Neonatal adrenal disorder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560" y="1341000"/>
            <a:ext cx="87138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hat is the commonest cause of childhood adrenal disorders worldw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hat is the commonest cause of childhood adrenal disorders in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logo"/>
          <p:cNvPicPr/>
          <p:nvPr/>
        </p:nvPicPr>
        <p:blipFill>
          <a:blip r:embed="rId1"/>
          <a:srcRect l="0" t="0" r="58773" b="0"/>
          <a:stretch/>
        </p:blipFill>
        <p:spPr>
          <a:xfrm>
            <a:off x="7543800" y="0"/>
            <a:ext cx="1600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Primary Adrenal Insufficiency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268280"/>
          <a:ext cx="8105760" cy="5105520"/>
        </p:xfrm>
        <a:graphic>
          <a:graphicData uri="http://schemas.openxmlformats.org/drawingml/2006/table">
            <a:tbl>
              <a:tblPr/>
              <a:tblGrid>
                <a:gridCol w="8105760"/>
              </a:tblGrid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Systemic disorder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 Granulomatous diseases – TB (most common cause worldwid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52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Primary damage - Haemorrhage associated with eg. Meningococcal septicaemia (Waterhouse-Friderichsen syndrome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520">
                <a:tc>
                  <a:txBody>
                    <a:bodyPr lIns="66600" rIns="66600" tIns="38160" bIns="38160" anchor="ctr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Autoimmune disease (either isolated or as part of the polyglandular autoimmune syndrome) – rare in neon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Genetic disease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520">
                <a:tc>
                  <a:txBody>
                    <a:bodyPr lIns="66600" rIns="66600" tIns="38160" bIns="38160" anchor="ctr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ngenital Adrenal Hyperplasia (CAH) - 21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α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hydroxylase deficiency (21OHD -  most common cause in the UK), 3bHSD, 11OH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Peroxisomal defects (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drenoleukodystrophy, Zellweger syndr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Abnormal adrenal gland develop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ngenital adrenal hypoplasia - gene mutations (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X-1, SF1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. Other genetic conditions – Triple A syndrome, FG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bf5f9"/>
                </a:solidFill>
                <a:latin typeface="Arial"/>
              </a:rPr>
              <a:t>Neonatal salt wasting endocrine disorder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700280"/>
            <a:ext cx="8713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Salt wasting conditions occur if there is compromis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1.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Calibri"/>
              </a:rPr>
              <a:t>Mineralocorticoid productio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due to adrenal enzyme pathway disorders – eg. 21OHD or 3bHSD CAH, aldosterone synthase de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2.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Calibri"/>
              </a:rPr>
              <a:t>Resistance of receptors to aldosterone or disorders of the  renin-angiotensin pathway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 - Pseudohypoaldosteronism or RTA Type 4, U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Calibri"/>
              </a:rPr>
              <a:t>Salt wasting does not normally occur in pituitary related adrenal insufficiency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 or certain forms of CAH (11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β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OHD, 17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OH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3"/>
          <p:cNvGrpSpPr/>
          <p:nvPr/>
        </p:nvGrpSpPr>
        <p:grpSpPr>
          <a:xfrm>
            <a:off x="617400" y="61920"/>
            <a:ext cx="7626600" cy="3852720"/>
            <a:chOff x="617400" y="61920"/>
            <a:chExt cx="7626600" cy="3852720"/>
          </a:xfrm>
        </p:grpSpPr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617400" y="61920"/>
              <a:ext cx="7626600" cy="38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1"/>
            <p:cNvSpPr/>
            <p:nvPr/>
          </p:nvSpPr>
          <p:spPr>
            <a:xfrm>
              <a:off x="1042560" y="1123920"/>
              <a:ext cx="165564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6"/>
            <p:cNvSpPr/>
            <p:nvPr/>
          </p:nvSpPr>
          <p:spPr>
            <a:xfrm>
              <a:off x="3706920" y="2492280"/>
              <a:ext cx="1657440" cy="360360"/>
            </a:xfrm>
            <a:prstGeom prst="rect">
              <a:avLst/>
            </a:prstGeom>
            <a:noFill/>
            <a:ln w="25560">
              <a:solidFill>
                <a:srgbClr val="5ff3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042560" y="1844640"/>
              <a:ext cx="165564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372360" y="1807920"/>
              <a:ext cx="1655640" cy="360360"/>
            </a:xfrm>
            <a:prstGeom prst="rect">
              <a:avLst/>
            </a:prstGeom>
            <a:noFill/>
            <a:ln w="25560">
              <a:solidFill>
                <a:srgbClr val="0bd0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 rot="5400000">
              <a:off x="2339640" y="1010880"/>
              <a:ext cx="1655640" cy="360360"/>
            </a:xfrm>
            <a:prstGeom prst="rect">
              <a:avLst/>
            </a:prstGeom>
            <a:noFill/>
            <a:ln w="25560">
              <a:solidFill>
                <a:srgbClr val="5ff3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250920" y="3933720"/>
          <a:ext cx="8569080" cy="268308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Enzyme def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Key feat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etabol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0" lang="el-G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t wasting, 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H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</a:t>
                      </a:r>
                      <a:r>
                        <a:rPr b="0" lang="el-GR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ydroxyl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t wasting, 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OH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11 </a:t>
                      </a:r>
                      <a:r>
                        <a:rPr b="0" lang="el-GR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Hydroxyl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Hyperten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11 D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17 </a:t>
                      </a:r>
                      <a:r>
                        <a:rPr b="0" lang="el-GR" sz="2000" spc="-1" strike="noStrike">
                          <a:solidFill>
                            <a:srgbClr val="5ff3ca"/>
                          </a:solidFill>
                          <a:latin typeface="Arial"/>
                          <a:ea typeface="Times New Roman"/>
                        </a:rPr>
                        <a:t>α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Times New Roman"/>
                        </a:rPr>
                        <a:t> Hydroxyl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Hyperten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Progester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</a:rPr>
                        <a:t>17 </a:t>
                      </a:r>
                      <a:r>
                        <a:rPr b="0" lang="el-GR" sz="2000" spc="-1" strike="noStrike">
                          <a:solidFill>
                            <a:srgbClr val="6bdbfa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</a:rPr>
                        <a:t>H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  <a:ea typeface="Arial"/>
                        </a:rPr>
                        <a:t>Androstenedione, DH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412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bf5f9"/>
                </a:solidFill>
                <a:latin typeface="Arial"/>
              </a:rPr>
              <a:t>Clinical presentation with adrenal insufficiency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267920"/>
            <a:ext cx="66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ual and nonspecific to hypotension or sh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hydration, weigh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hargy or decreased feeding and sleep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glyc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lyte imbalance - Hyponatraemia &amp; hyperkala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AI – Elevated ACTH and MSH can cause hyperpigmentation of the skin in the creases and mucous membra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H often present in the second week of lif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6012000" y="4437000"/>
            <a:ext cx="2970000" cy="2405520"/>
            <a:chOff x="6012000" y="4437000"/>
            <a:chExt cx="2970000" cy="2405520"/>
          </a:xfrm>
        </p:grpSpPr>
        <p:pic>
          <p:nvPicPr>
            <p:cNvPr id="154" name="Picture 2" descr=""/>
            <p:cNvPicPr/>
            <p:nvPr/>
          </p:nvPicPr>
          <p:blipFill>
            <a:blip r:embed="rId1"/>
            <a:stretch/>
          </p:blipFill>
          <p:spPr>
            <a:xfrm>
              <a:off x="6012000" y="4437000"/>
              <a:ext cx="2970000" cy="21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3"/>
            <p:cNvSpPr/>
            <p:nvPr/>
          </p:nvSpPr>
          <p:spPr>
            <a:xfrm>
              <a:off x="6012000" y="6611400"/>
              <a:ext cx="297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owden &amp; Henry, IJP 20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0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Investigation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7640" y="1196640"/>
            <a:ext cx="8567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Salt wasting (mineralocorticoid comprom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/Es – trends in Na and K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nin,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ldoster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inary sodium (prior to replac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Mineralocorticoid comprom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ood glucose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ynacthen 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Virilised male or fe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7O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1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Undervirilised 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HEAS, progesterone, Glycerol kin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in the newborn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: Na+&lt;130 occurs in 25-30% of very low birth weight bab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iming of onset can distinguish caus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Arial"/>
              </a:rPr>
              <a:t>Onset from birth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Maternal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abnormal fluid and electrolyte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nal diseases with abnormal electrol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iuretic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Malnutr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ligohydramn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hysical findings suggestive of abnormal electrolyte 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- O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- Ascites, abdominal/flank m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0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Calibri"/>
              </a:rPr>
              <a:t>Urination – P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Calibri"/>
              </a:rPr>
              <a:t>Salt and water balance – Day 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renocortical fun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47840" indent="0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nad anatomy and endocrin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productiv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0000" y="4005360"/>
          <a:ext cx="2737080" cy="1096920"/>
        </p:xfrm>
        <a:graphic>
          <a:graphicData uri="http://schemas.openxmlformats.org/drawingml/2006/table">
            <a:tbl>
              <a:tblPr/>
              <a:tblGrid>
                <a:gridCol w="586080"/>
                <a:gridCol w="2151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tisol nmol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7"/>
          <p:cNvSpPr/>
          <p:nvPr/>
        </p:nvSpPr>
        <p:spPr>
          <a:xfrm>
            <a:off x="826920" y="2349360"/>
            <a:ext cx="3889440" cy="4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+ 137, K+ 4.6, urea &lt;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5465880" y="5661000"/>
            <a:ext cx="3457440" cy="86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S: uterus present, ovaries not seen, adrenals norm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324000" y="378000"/>
            <a:ext cx="7315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Case G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7"/>
          <p:cNvSpPr/>
          <p:nvPr/>
        </p:nvSpPr>
        <p:spPr>
          <a:xfrm>
            <a:off x="4869000" y="2349360"/>
            <a:ext cx="3889080" cy="4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+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13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K+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7.8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urea &lt;2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4869000" y="1887480"/>
            <a:ext cx="18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Calibri"/>
              </a:rPr>
              <a:t>Day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148572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3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ryotype 46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3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17OHP and Androgens 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Arial"/>
              </a:rPr>
              <a:t>↑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3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ynacthen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573440" y="2492280"/>
            <a:ext cx="4175280" cy="239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stosterone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&gt;50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mol/l (nr 0-2.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drostenedione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&gt;30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mol/l (nr 0-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HEA 14.7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µmol/l (nr 1-1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H 453 ng/l (nr 0-4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3429000"/>
          <a:ext cx="2881080" cy="1279440"/>
        </p:xfrm>
        <a:graphic>
          <a:graphicData uri="http://schemas.openxmlformats.org/drawingml/2006/table">
            <a:tbl>
              <a:tblPr/>
              <a:tblGrid>
                <a:gridCol w="647640"/>
                <a:gridCol w="1081080"/>
                <a:gridCol w="115236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ti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OHP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mol/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3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5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52"/>
          <p:cNvSpPr/>
          <p:nvPr/>
        </p:nvSpPr>
        <p:spPr>
          <a:xfrm>
            <a:off x="684360" y="5589720"/>
            <a:ext cx="7777080" cy="886680"/>
          </a:xfrm>
          <a:prstGeom prst="rect">
            <a:avLst/>
          </a:prstGeom>
          <a:noFill/>
          <a:ln w="2844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Verdana"/>
              </a:rPr>
              <a:t>21-hydroxylase gene mutation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alysis: homozygous for a mutation known to be associated with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alt-wasting CA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7"/>
          <p:cNvSpPr/>
          <p:nvPr/>
        </p:nvSpPr>
        <p:spPr>
          <a:xfrm>
            <a:off x="4640400" y="1365120"/>
            <a:ext cx="3889080" cy="86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 141,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K 4.2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urea &lt;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nin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ng/ml/h (nr 0.5-2.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324000" y="378000"/>
            <a:ext cx="7315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Case G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Arial"/>
                <a:ea typeface="ＭＳ Ｐゴシック"/>
              </a:rPr>
              <a:t>Management of salt wasting CAH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Hydrocortison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10-15m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day, TDS,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4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ypical dose in neonates- 1.5-2mg, TDS, P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Fludrocortison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150µ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day in neonates, 50-100µ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day in older children and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Salt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uring infancy 5-20mmol/kg/day (1-3g/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onitoring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gular growth measu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djustment of the dosage based on body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3 mo measurement of 17OHP profile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4hr Cortisol profile - rar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Secondary and tertiary adrenal insufficiency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1280" y="1628640"/>
          <a:ext cx="7315200" cy="397836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Congenital abnormalities of the pituitary g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a) Septo-optic dysplas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b) Pituitary aplasia/hypoplas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c) Agenesis of corticotro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d) POM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Destruction of the pituitary gland or hypothalam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a) Tumour rel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b) Pituitary apoplexy – very 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1773360"/>
            <a:ext cx="731520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Congenital hypopituitarism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971640" y="3357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Where does the word ‘ Pituitary’ come fro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bf5f9"/>
                </a:solidFill>
                <a:latin typeface="Arial"/>
              </a:rPr>
              <a:t>The Pituitary</a:t>
            </a:r>
            <a:br>
              <a:rPr sz="4300"/>
            </a:b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5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rived from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ituit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Latin) for phleg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alen hypothesised that nasal phlegm originated from the brain and drained into the pituita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ists of anterior pituitary and posterior pituit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Pituitary Developmen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80" name="Picture 3" descr="pituitary development"/>
          <p:cNvPicPr/>
          <p:nvPr/>
        </p:nvPicPr>
        <p:blipFill>
          <a:blip r:embed="rId1"/>
          <a:srcRect l="4507" t="7747" r="0" b="9677"/>
          <a:stretch/>
        </p:blipFill>
        <p:spPr>
          <a:xfrm>
            <a:off x="233280" y="909720"/>
            <a:ext cx="8682120" cy="4000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54720" y="4952880"/>
            <a:ext cx="77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agination of the stromodeal ectoderm from buccal c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5120" y="5334120"/>
            <a:ext cx="85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fundibulum, neural stalk and posterior lobe from diencepha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160" y="571500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velopment 3rd to the 15th week ge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476360" y="42840"/>
            <a:ext cx="662292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Arial"/>
              </a:rPr>
              <a:t>Anterior Pituitary Gland </a:t>
            </a:r>
            <a:r>
              <a:rPr b="0" lang="en-US" sz="2800" spc="-1" strike="noStrike">
                <a:solidFill>
                  <a:srgbClr val="dbf5f9"/>
                </a:solidFill>
                <a:latin typeface="Arial"/>
              </a:rPr>
              <a:t>‘master gland’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1480" indent="-18252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jor blood source: hypothalamic-pituitary portal plex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lows transmission of hypothalamic peptide pulses without significant systemic di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equently, pituitary cells are exposed to sharp spikes of releasing factors and in turn release their hormones as discrete pul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ion of six major hormon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lactin (PR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owth hormone (G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renocorticotropin hormone (AC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uteinizing hormone (L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llicle-stimulating hormone (F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yroid-stimulating hormone (TSH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7756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Arial"/>
              </a:rPr>
              <a:t>Congenital hypopituitarism +/- adrenal insufficiency - causes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erinatal insults (eg, traumatic delivery, birth asphyxi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Interrupted pituitary 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Absent or ectopic neurohypoph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allister-Hall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Developmental central nervous system (CNS) def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An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Holopros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ituitary aplasia or hypo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in the newborn II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Gradual hyponatraemia in the first days of lif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reflects a few condition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rematurity – renal lo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Fluid retention (+/- hypervolaemia) – renal filtration problems, SIAD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Salt wasting conditions (+/- hypovolaemia) – diuretics, hypoaldosteronism (adrenal +/-  disorders of sex development (DSD)), pseudohypoaldosteronism (transient in UTIs or genet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hyponatraemia in preterms is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ot benig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may cause poor growth and developmental del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Normal neonatal Na+ replacement  = 3mmol/kg/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Hypopituitarism - cause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380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al and genetic 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81320" indent="-17496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o-Optic dyspl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81320" indent="-17496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al hypothalamic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lman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rence-Moon-Bardet-Biedl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hlich Syndrome (Adipose Genital Dystroph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051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quired 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ltrativ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anial ir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mphocytic hypophys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tuitary Apople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ty Sella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Arial"/>
              </a:rPr>
              <a:t>Hypopituitarism: Genetic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1142640"/>
            <a:ext cx="84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1480" indent="-182520">
              <a:lnSpc>
                <a:spcPct val="70000"/>
              </a:lnSpc>
              <a:spcBef>
                <a:spcPts val="700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Septo-Optic dys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riad of dysgenesis of the optic nerves, septum pellucidum, 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ffected children may have mutations in the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HESX1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gene - involved in early development of the ventral prosencephal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Fea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ptic atro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icropen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left pal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yndacty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ear deform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hypertelor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nos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ituitary dys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Diabetes insipid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GH deficiency (IUGR/SGA, hypoglycaemia in infancy, short stature in later childho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ccasionally TSH deficienc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Calibri"/>
                <a:ea typeface="Calibri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78487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2 week old male infant on SCBU has poor feeding, lethargy, 2 episodes of hypoglyca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orn at term, 2850 g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ormal feeding, undescended tes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58960" y="3056040"/>
          <a:ext cx="7273800" cy="3565440"/>
        </p:xfrm>
        <a:graphic>
          <a:graphicData uri="http://schemas.openxmlformats.org/drawingml/2006/table">
            <a:tbl>
              <a:tblPr/>
              <a:tblGrid>
                <a:gridCol w="3636720"/>
                <a:gridCol w="36370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vestig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Liver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 bilirubin  / Direct bilirubi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80 / 6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LP, AST, GG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50, 100, 105 U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Thyroid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1 mU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Free T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.5 (15-30) p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Random Cortis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0 n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Random 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5 and 2.1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7848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es this child need a HIDA scan to exclude biliary atres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e the TFTs most likely to reflect sick euthyroid syndr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 random GH levels be interpre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8487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es this child need a HIDA scan to exclude biliary atres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normal HIDA scan can be seen with congenital hypopituitarism, leading to incorrect diagnosis of biliary hypoplasia / atre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bf5f9"/>
                </a:solidFill>
                <a:latin typeface="Arial"/>
              </a:rPr>
              <a:t>Congenital Hypopituitarism and Neonatal Hepatitis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5075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atal hepatitis is commonly seen in severe congenital hypopituitar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ed by giant cell hepatitis and biliary duct hypopla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r function may show obstruction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), injur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T, AST, GGT) or bo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ay et al Acta Paediatr 2000; 89: 951-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op et al Acta Paediatr Scand 1979; 68: 277-8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bf5f9"/>
                </a:solidFill>
                <a:latin typeface="Arial"/>
              </a:rPr>
              <a:t>Congenital Hypopituitarism and Neonatal Hepatitis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levels of GH, thyroxine and cortisol thought to be needed for normal hepatocyte and bile duct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75% infants LFT returned to normal by 6 weeks with replacement 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eonatal hepatitis is present and replacement therapy is markedly delayed (yrs) irreversible liver disease may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ray et al Acta Paediatr 2000; 89: 951-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op et al Acta Paediatr Scand 1979; 68: 277-8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68000" y="1844640"/>
            <a:ext cx="8567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 the TFTs most likely to reflect sick euthyroid syndro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inical picture is strongly suggestive of hypopituitarism. Important to always consider a diagnosis of hypopituitarism in any child thought to have sick euthyoid syndr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496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random GH levels be interpre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irst 4-8 weeks of life GH secretion exhibits a markedly elevated baseline with increased pulse amplitude. The only time in life when random GH measurements are meaningful because the baseline is continuously elev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nblath et al J. Clin Endocrinol Metab 1965; 25: 209-1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Zegher et al. J Clin Endocrinol Metab 1993; 76: 1177-8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bf5f9"/>
                </a:solidFill>
                <a:latin typeface="Arial"/>
              </a:rPr>
              <a:t>Take Home Messag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3640" y="3645000"/>
            <a:ext cx="85690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consider hypopituitarism as the cause of neonatal hepat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specially in the jaundiced male with undescended tes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in the newborn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4800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1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speed of correction depends on the speed of the onset of hyponatremia: acute changes may be treated more rapidly, but chronic changes require slower trea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11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lasma Na+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  <a:ea typeface="Calibri"/>
              </a:rPr>
              <a:t>should not increase by more than 8–12 mEq/L in the first 24 hour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to avoid both cerebral oedema and the risk of pontine myelino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179280" y="1125360"/>
            <a:ext cx="4824360" cy="4734000"/>
            <a:chOff x="179280" y="1125360"/>
            <a:chExt cx="4824360" cy="4734000"/>
          </a:xfrm>
        </p:grpSpPr>
        <p:grpSp>
          <p:nvGrpSpPr>
            <p:cNvPr id="104" name="Group 4"/>
            <p:cNvGrpSpPr/>
            <p:nvPr/>
          </p:nvGrpSpPr>
          <p:grpSpPr>
            <a:xfrm>
              <a:off x="183600" y="1494360"/>
              <a:ext cx="4820040" cy="4365000"/>
              <a:chOff x="183600" y="1494360"/>
              <a:chExt cx="4820040" cy="4365000"/>
            </a:xfrm>
          </p:grpSpPr>
          <p:pic>
            <p:nvPicPr>
              <p:cNvPr id="10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880" y="1494360"/>
                <a:ext cx="4811760" cy="403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Box 3"/>
              <p:cNvSpPr/>
              <p:nvPr/>
            </p:nvSpPr>
            <p:spPr>
              <a:xfrm>
                <a:off x="183600" y="5598000"/>
                <a:ext cx="481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Marcialis et al,  J Matern Fetal Neonatal Med. 2011 Oct; 24 Suppl 1:75-9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Box 5"/>
            <p:cNvSpPr/>
            <p:nvPr/>
          </p:nvSpPr>
          <p:spPr>
            <a:xfrm>
              <a:off x="179280" y="1125360"/>
              <a:ext cx="48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iseases associated with neonatal hyponatrem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6200" y="2743200"/>
            <a:ext cx="82314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Questions???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2" name="Picture 3" descr="logo"/>
          <p:cNvPicPr/>
          <p:nvPr/>
        </p:nvPicPr>
        <p:blipFill>
          <a:blip r:embed="rId1"/>
          <a:srcRect l="0" t="0" r="58773" b="0"/>
          <a:stretch/>
        </p:blipFill>
        <p:spPr>
          <a:xfrm>
            <a:off x="7543800" y="0"/>
            <a:ext cx="1600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- investigation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119664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ight and B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ine genit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Bl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/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nin and aldoster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rtisol or synacthen test with AC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FT (if midline defects or hypopituitarism suspec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7OHP (if virilis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HEAS, Androstenedione, Testosterone (if CAH suspec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ryotype (if genitalia ambiguous or bilateral undescended tes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U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ine sodium excre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ine steroid pro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treatmen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4080" y="2997360"/>
            <a:ext cx="8208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fluid retention – for fluid restri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salt losses - Treatment with 5% Dex+ 0.45%NaCl  - 0.9% Saline solution I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U/E 2 hourly to look at tr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 by no more than 8 - 12 mmol/L/day to avoid rapid fluid shifts in the b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losses are greater than correction, consider a replacement using a sodium deficit calcu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380440" cy="161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635280" y="5661000"/>
            <a:ext cx="51912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  <a:ea typeface="ＭＳ Ｐゴシック"/>
              </a:rPr>
              <a:t>Case IR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orn preterm at 31 wk of GA at Bury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itial 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ferred to RMCH neonatal unit at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7 days of age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for hyponatremia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psis, feeding intolerance &amp; poor venou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solving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 potassium K+- 5.6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anguineous parents, Uncomplicated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MSU -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lin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o dysmorphic features, Normal female external gen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eated with IV antibiotics and IV flui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n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D12 Na-117, K-8.4, UNa-170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ith very difficult venou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Calibri"/>
                <a:ea typeface="ＭＳ Ｐゴシック"/>
              </a:rPr>
              <a:t>NICU- Progres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rtisol-243 nmol/l, 17OHP-8.9nmol/l, Renin and Aldo p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7 -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Renin 84.5 (0.2-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ickman line inserted under cover of IM hydrocortisone (D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ynacthen test (D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H-13ng/l (0-4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Aldosterone 595pmol/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90880" y="3068640"/>
          <a:ext cx="5040360" cy="1604880"/>
        </p:xfrm>
        <a:graphic>
          <a:graphicData uri="http://schemas.openxmlformats.org/drawingml/2006/table">
            <a:tbl>
              <a:tblPr/>
              <a:tblGrid>
                <a:gridCol w="2808360"/>
                <a:gridCol w="1008000"/>
                <a:gridCol w="1224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0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30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Cortisol (nmo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3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9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17OHP (nmol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2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70"/>
          <p:cNvSpPr/>
          <p:nvPr/>
        </p:nvSpPr>
        <p:spPr>
          <a:xfrm>
            <a:off x="249480" y="5835600"/>
            <a:ext cx="64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Calibri"/>
                <a:ea typeface="Calibri"/>
              </a:rPr>
              <a:t>Electrolytes normalised by combination of NaHCO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Calibri"/>
                <a:ea typeface="Calibri"/>
              </a:rPr>
              <a:t>NaCl, Renastart feeds and NaResonium (Na- 25mmol/kg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bf5f9"/>
                </a:solidFill>
                <a:latin typeface="Arial"/>
                <a:ea typeface="ＭＳ Ｐゴシック"/>
              </a:rPr>
              <a:t>Genetic confirmation of the diagnosis - PHA type 1 Multiple target organ defect</a:t>
            </a:r>
            <a:br>
              <a:rPr sz="4400"/>
            </a:b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mozygous donor splice site mutation in intron 12 of </a:t>
            </a:r>
            <a:r>
              <a:rPr b="1" i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SCNN1B</a:t>
            </a: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 gene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 c.1542+1G&gt;A (p.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Codes for </a:t>
            </a:r>
            <a:r>
              <a:rPr b="1" lang="el-GR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β</a:t>
            </a: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 subunit of Epithelial sodium channel (ENaC) 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ich facilitates aldosterone mediated Na reabsorption at distal nephron, colon, airways, sweat &amp; salivary 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50920" y="4294080"/>
            <a:ext cx="334332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788000" y="3824280"/>
            <a:ext cx="3960720" cy="2989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4427640" y="3968640"/>
            <a:ext cx="4537080" cy="25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kae Mars (RW3) CMFT Manchester</dc:creator>
  <dc:description/>
  <dc:language>en-US</dc:language>
  <cp:lastModifiedBy>Grothusen Ben (R0A) Manchester University NHS FT</cp:lastModifiedBy>
  <dcterms:modified xsi:type="dcterms:W3CDTF">2020-02-28T09:35:32Z</dcterms:modified>
  <cp:revision>176</cp:revision>
  <dc:subject/>
  <dc:title>PowerPoint Presentation</dc:title>
</cp:coreProperties>
</file>